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.gif" ContentType="image/gif"/>
  <Override PartName="/ppt/media/image22.jpeg" ContentType="image/jpeg"/>
  <Override PartName="/ppt/media/image1.jpeg" ContentType="image/jpeg"/>
  <Override PartName="/ppt/media/image35.jpeg" ContentType="image/jpeg"/>
  <Override PartName="/ppt/media/image54.gif" ContentType="image/gif"/>
  <Override PartName="/ppt/media/image4.gif" ContentType="image/gif"/>
  <Override PartName="/ppt/media/image33.jpeg" ContentType="image/jpeg"/>
  <Override PartName="/ppt/media/image27.jpeg" ContentType="image/jpeg"/>
  <Override PartName="/ppt/media/image52.png" ContentType="image/png"/>
  <Override PartName="/ppt/media/image6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37.jpeg" ContentType="image/jpeg"/>
  <Override PartName="/ppt/media/image9.jpeg" ContentType="image/jpeg"/>
  <Override PartName="/ppt/media/image48.png" ContentType="image/png"/>
  <Override PartName="/ppt/media/image43.gif" ContentType="image/gif"/>
  <Override PartName="/ppt/media/image45.png" ContentType="image/png"/>
  <Override PartName="/ppt/media/image46.jpeg" ContentType="image/jpeg"/>
  <Override PartName="/ppt/media/image47.jpeg" ContentType="image/jpeg"/>
  <Override PartName="/ppt/media/Digitale%20Stem%20-%20o%20neeeeee.wav" ContentType="audio/x-wav"/>
  <Override PartName="/ppt/media/image49.jpeg" ContentType="image/jpeg"/>
  <Override PartName="/ppt/media/image51.png" ContentType="image/png"/>
  <Override PartName="/ppt/media/image41.png" ContentType="image/png"/>
  <Override PartName="/ppt/media/image53.jpeg" ContentType="image/jpeg"/>
  <Override PartName="/ppt/media/Crazy%20land%2021%207%20sec.wav" ContentType="audio/x-wav"/>
  <Override PartName="/ppt/media/image32.jpeg" ContentType="image/jpeg"/>
  <Override PartName="/ppt/media/image50.png" ContentType="image/png"/>
  <Override PartName="/ppt/media/image5.jpeg" ContentType="image/jpeg"/>
  <Override PartName="/ppt/media/image26.jpeg" ContentType="image/jpeg"/>
  <Override PartName="/ppt/media/image31.jpeg" ContentType="image/jpeg"/>
  <Override PartName="/ppt/media/image30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428B-B645-4322-A5A6-5DF3AA1E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AF29-9079-4173-B66B-8A7F26D48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FD55-CAC2-4628-B0D5-CCB0DF18D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C29E-6D26-4518-8DC4-E1D2D71CA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7A36-8404-4EB6-A90A-419BC029B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69D4-0A6D-4D9A-B5BA-EB47DBC1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F456-DC52-4A18-AADF-E0900C94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A3AF-1690-4AAA-A0D5-763D9A47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7D89-2C58-4E32-9ADE-207C8227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089B-8A0E-4450-8B6D-760916F4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E604-0856-404B-B156-8A4210D0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85FD-4D81-44E2-B647-B289F7E7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F815E-AEE6-4865-BA2D-D9688AEAE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17.xml"/><Relationship Id="rId4" Type="http://schemas.openxmlformats.org/officeDocument/2006/relationships/slide" Target="slide25.xml"/><Relationship Id="rId5" Type="http://schemas.openxmlformats.org/officeDocument/2006/relationships/slide" Target="slide39.xml"/><Relationship Id="rId6" Type="http://schemas.openxmlformats.org/officeDocument/2006/relationships/slide" Target="slide42.xml"/><Relationship Id="rId7" Type="http://schemas.openxmlformats.org/officeDocument/2006/relationships/image" Target="../media/image2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razy%20land%2021%207%20sec.wav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jpeg"/><Relationship Id="rId3" Type="http://schemas.openxmlformats.org/officeDocument/2006/relationships/slide" Target="slide1.xml"/><Relationship Id="rId4" Type="http://schemas.openxmlformats.org/officeDocument/2006/relationships/audio" Target="../media/Digitale%20Stem%20-%20o%20neeeeee.wav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gif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18900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V grapjes (6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250920" y="112536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Voit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1042920" y="2133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or het werk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179280" y="3141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or onderneme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042920" y="4149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or, tijdens,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250920" y="515772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Voorlich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" action="ppaction://hlinkshowjump?jump=endshow"/>
          </p:cNvPr>
          <p:cNvPicPr/>
          <p:nvPr/>
        </p:nvPicPr>
        <p:blipFill>
          <a:blip r:embed="rId7"/>
          <a:stretch/>
        </p:blipFill>
        <p:spPr>
          <a:xfrm>
            <a:off x="6516720" y="981000"/>
            <a:ext cx="1368360" cy="849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6880" y="5866920"/>
            <a:ext cx="4267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Ferrari F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066680" y="914400"/>
            <a:ext cx="6553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520" y="5791320"/>
            <a:ext cx="5333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Ferrari Testaros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219320" y="1295280"/>
            <a:ext cx="662940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9680" y="5638320"/>
            <a:ext cx="4648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Hum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739152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120" y="5866920"/>
            <a:ext cx="5867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amborghini Diab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754380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562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ercedes CL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777240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6095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ercedes S6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990720" y="45720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5733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nti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315200" y="6400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mzzl C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838080" y="609480"/>
            <a:ext cx="7010640" cy="525780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3" action="ppaction://hlinksldjump"/>
          </p:cNvPr>
          <p:cNvSpPr/>
          <p:nvPr/>
        </p:nvSpPr>
        <p:spPr>
          <a:xfrm>
            <a:off x="7596360" y="5300640"/>
            <a:ext cx="1295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at u verdient als werk ruimt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793800"/>
            <a:ext cx="9144000" cy="6064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08760" y="15228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en bedrijfswagen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792000"/>
            <a:ext cx="9144000" cy="6066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1920" y="152280"/>
            <a:ext cx="47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en parkeerplaats, met een uitzich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ievelingswag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8040" y="152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en fijne werksfee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7644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857280" y="1828800"/>
            <a:ext cx="19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en kantin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08760" y="15228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en pc’ tj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06240" y="152280"/>
            <a:ext cx="29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en vergaderzaaltj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Stop met dromen !</a:t>
            </a:r>
            <a:br>
              <a:rPr sz="4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rk liever verd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rcRect l="0" t="0" r="0" b="11157"/>
          <a:stretch/>
        </p:blipFill>
        <p:spPr>
          <a:xfrm>
            <a:off x="755640" y="1728720"/>
            <a:ext cx="7696080" cy="512928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rId3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7920" y="1371600"/>
            <a:ext cx="6858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00"/>
                </a:solidFill>
                <a:latin typeface="Times New Roman"/>
              </a:rPr>
              <a:t>Het geld ligt op de str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3300"/>
                </a:solidFill>
                <a:latin typeface="Times New Roman"/>
              </a:rPr>
              <a:t>Men kan met een klein startkapitaal een koeriersdienst begi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8400" y="847800"/>
            <a:ext cx="66672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238400" y="847800"/>
            <a:ext cx="66672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538280" y="95400"/>
            <a:ext cx="6067440" cy="66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238400" y="847800"/>
            <a:ext cx="66672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601992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rche 9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143000" y="838080"/>
            <a:ext cx="62485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238400" y="847800"/>
            <a:ext cx="66672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238400" y="847800"/>
            <a:ext cx="66672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38400" y="847800"/>
            <a:ext cx="66672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238400" y="847800"/>
            <a:ext cx="66672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238400" y="847800"/>
            <a:ext cx="66672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238400" y="847800"/>
            <a:ext cx="66672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238400" y="847800"/>
            <a:ext cx="66672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238400" y="847800"/>
            <a:ext cx="6667200" cy="51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238400" y="847800"/>
            <a:ext cx="6667200" cy="516240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rId3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rcRect l="38921" t="0" r="0" b="52560"/>
          <a:stretch/>
        </p:blipFill>
        <p:spPr>
          <a:xfrm>
            <a:off x="1763640" y="1916280"/>
            <a:ext cx="5121360" cy="43653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71600" y="1268280"/>
            <a:ext cx="64008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1   V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0320" y="404640"/>
            <a:ext cx="72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Arial"/>
              </a:rPr>
              <a:t>VOOR, TIJDENS  en  NA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01992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udi T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90720" y="609480"/>
            <a:ext cx="6933960" cy="52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rcRect l="0" t="50788" r="40867" b="0"/>
          <a:stretch/>
        </p:blipFill>
        <p:spPr>
          <a:xfrm>
            <a:off x="1835280" y="1773360"/>
            <a:ext cx="4927320" cy="45003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99"/>
                </a:solidFill>
                <a:latin typeface="Arial"/>
              </a:rPr>
              <a:t>VOOR, TIJDENS en 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119664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2   TIJD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rcRect l="62922" t="50788" r="0" b="0"/>
          <a:stretch/>
        </p:blipFill>
        <p:spPr>
          <a:xfrm>
            <a:off x="3139920" y="1844640"/>
            <a:ext cx="2867040" cy="41767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4400" spc="-1" strike="noStrike">
                <a:solidFill>
                  <a:srgbClr val="000099"/>
                </a:solidFill>
                <a:latin typeface="Arial"/>
              </a:rPr>
              <a:t>VOOR, TIJDENS en N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1125000"/>
            <a:ext cx="640080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Arial"/>
              </a:rPr>
              <a:t>3  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rId3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28600" y="917640"/>
            <a:ext cx="8686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ffff00"/>
                </a:solidFill>
                <a:latin typeface="Comix"/>
              </a:rPr>
              <a:t>Als vader zijnde zul je op een gegeven moment door je zoon geconfronteerd worden met ee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5400" spc="-1" strike="noStrike">
                <a:solidFill>
                  <a:srgbClr val="ffff00"/>
                </a:solidFill>
                <a:latin typeface="Comix"/>
              </a:rPr>
              <a:t>overrompelende vraag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3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2214720"/>
            <a:ext cx="4859280" cy="4643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24280" y="2590920"/>
            <a:ext cx="4191120" cy="533160"/>
          </a:xfrm>
          <a:prstGeom prst="wedgeRoundRectCallout">
            <a:avLst>
              <a:gd name="adj1" fmla="val -113296"/>
              <a:gd name="adj2" fmla="val 364583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mix"/>
              </a:rPr>
              <a:t>Pappa, waar kom ik vandaan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5680" y="2009880"/>
            <a:ext cx="8793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Comix"/>
              </a:rPr>
              <a:t>Je beseft dat je zoon nog te jong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Comix"/>
              </a:rPr>
              <a:t>voor een verhaal van vleselijke lus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Comix"/>
              </a:rPr>
              <a:t>en het verhaal over de bloemetjes 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Comix"/>
              </a:rPr>
              <a:t>de bijtjes is niet meer van deze tij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Comix"/>
              </a:rPr>
              <a:t>Dus zit er niets anders op dan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3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95360" y="1919160"/>
            <a:ext cx="8153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600" spc="-1" strike="noStrike" u="sng">
                <a:solidFill>
                  <a:srgbClr val="ffff00"/>
                </a:solidFill>
                <a:uFillTx/>
                <a:latin typeface="ComicType-Heavy"/>
              </a:rPr>
              <a:t>Voorlichting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600" spc="-1" strike="noStrike" u="sng">
                <a:solidFill>
                  <a:srgbClr val="ffff00"/>
                </a:solidFill>
                <a:uFillTx/>
                <a:latin typeface="ComicType-Heavy"/>
              </a:rPr>
              <a:t>anno 2005!!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75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3699000" cy="5157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297320" y="-1440"/>
            <a:ext cx="4846680" cy="7316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52280" y="6248520"/>
            <a:ext cx="3657600" cy="504720"/>
          </a:xfrm>
          <a:prstGeom prst="wedgeRoundRectCallout">
            <a:avLst>
              <a:gd name="adj1" fmla="val -2472"/>
              <a:gd name="adj2" fmla="val -200629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mix"/>
              </a:rPr>
              <a:t>Jongen, ik heb je moe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3699000" cy="5157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297320" y="0"/>
            <a:ext cx="4846680" cy="7316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52280" y="6208560"/>
            <a:ext cx="3276720" cy="649440"/>
          </a:xfrm>
          <a:prstGeom prst="wedgeRoundRectCallout">
            <a:avLst>
              <a:gd name="adj1" fmla="val -1694"/>
              <a:gd name="adj2" fmla="val -158069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x"/>
              </a:rPr>
              <a:t>Leren kennen tijde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x"/>
              </a:rPr>
              <a:t>het cha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195640" y="1803240"/>
            <a:ext cx="453708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3699000" cy="5157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4297320" y="0"/>
            <a:ext cx="4846680" cy="73166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6019920"/>
            <a:ext cx="3733920" cy="720720"/>
          </a:xfrm>
          <a:prstGeom prst="wedgeRoundRectCallout">
            <a:avLst>
              <a:gd name="adj1" fmla="val -1486"/>
              <a:gd name="adj2" fmla="val -117180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x"/>
              </a:rPr>
              <a:t>En we hebben elkaar daarna  ontmoet in 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90920" y="624852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BMW 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3699000" cy="51577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06200" y="6095880"/>
            <a:ext cx="3856320" cy="720720"/>
          </a:xfrm>
          <a:prstGeom prst="wedgeRoundRectCallout">
            <a:avLst>
              <a:gd name="adj1" fmla="val -9240"/>
              <a:gd name="adj2" fmla="val -129513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x"/>
              </a:rPr>
              <a:t>Het klikte zó goed, dat we daar op de toile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427640" y="3009960"/>
            <a:ext cx="471636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818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0" y="1676520"/>
            <a:ext cx="3714840" cy="51814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924360" y="5877000"/>
            <a:ext cx="3467160" cy="647640"/>
          </a:xfrm>
          <a:prstGeom prst="wedgeRoundRectCallout">
            <a:avLst>
              <a:gd name="adj1" fmla="val -112500"/>
              <a:gd name="adj2" fmla="val -110296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mix"/>
              </a:rPr>
              <a:t>een verbinding tot stand hebben doen k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10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403280" y="0"/>
            <a:ext cx="7740720" cy="6095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0" y="1676520"/>
            <a:ext cx="3713040" cy="518148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886200" y="5715000"/>
            <a:ext cx="3695760" cy="966960"/>
          </a:xfrm>
          <a:prstGeom prst="wedgeRoundRectCallout">
            <a:avLst>
              <a:gd name="adj1" fmla="val -107347"/>
              <a:gd name="adj2" fmla="val -74629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mix"/>
              </a:rPr>
              <a:t>op dat moment heeft mama een paar downloads gedaan met papa’s memory-st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3699000" cy="5157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06200" y="6060960"/>
            <a:ext cx="3399120" cy="720720"/>
          </a:xfrm>
          <a:prstGeom prst="wedgeRoundRectCallout">
            <a:avLst>
              <a:gd name="adj1" fmla="val -2777"/>
              <a:gd name="adj2" fmla="val -127532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mix"/>
              </a:rPr>
              <a:t>maar voordat papa kla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mix"/>
              </a:rPr>
              <a:t>was met de uplo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3851280" y="2994120"/>
            <a:ext cx="529272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3699000" cy="51577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06200" y="5997600"/>
            <a:ext cx="4465800" cy="784080"/>
          </a:xfrm>
          <a:prstGeom prst="wedgeRoundRectCallout">
            <a:avLst>
              <a:gd name="adj1" fmla="val -15550"/>
              <a:gd name="adj2" fmla="val -111944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mix"/>
              </a:rPr>
              <a:t>stelden we vast dat we g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mix"/>
              </a:rPr>
              <a:t>firewall hadden geïnstallee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5205240" y="1341360"/>
            <a:ext cx="393876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3699000" cy="5157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492360" y="3376440"/>
            <a:ext cx="5651640" cy="34815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52280" y="6058080"/>
            <a:ext cx="3048120" cy="647640"/>
          </a:xfrm>
          <a:prstGeom prst="wedgeRoundRectCallout">
            <a:avLst>
              <a:gd name="adj1" fmla="val -1666"/>
              <a:gd name="adj2" fmla="val -128430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mix"/>
              </a:rPr>
              <a:t>en aangezien het 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mix"/>
              </a:rPr>
              <a:t>laat was voor 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3699000" cy="5157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80880" y="6172200"/>
            <a:ext cx="2286000" cy="533520"/>
          </a:xfrm>
          <a:prstGeom prst="wedgeRoundRectCallout">
            <a:avLst>
              <a:gd name="adj1" fmla="val -1805"/>
              <a:gd name="adj2" fmla="val -168453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x"/>
              </a:rPr>
              <a:t>of can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564000" y="1474920"/>
            <a:ext cx="558000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3699000" cy="5157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06200" y="6095880"/>
            <a:ext cx="3475080" cy="648000"/>
          </a:xfrm>
          <a:prstGeom prst="wedgeRoundRectCallout">
            <a:avLst>
              <a:gd name="adj1" fmla="val -7101"/>
              <a:gd name="adj2" fmla="val -135782"/>
              <a:gd name="adj3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omix"/>
              </a:rPr>
              <a:t>zaten we na  negen maanden met een virus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3708360" y="3645000"/>
            <a:ext cx="54356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990720" y="3240"/>
            <a:ext cx="7162560" cy="6850080"/>
          </a:xfrm>
          <a:prstGeom prst="rect">
            <a:avLst/>
          </a:prstGeom>
          <a:ln w="0">
            <a:noFill/>
          </a:ln>
        </p:spPr>
      </p:pic>
      <p:sp>
        <p:nvSpPr>
          <p:cNvPr id="165" name="">
            <a:hlinkClick r:id="rId3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7920" y="60199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BMW X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219320" y="914400"/>
            <a:ext cx="6400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419640" y="2349360"/>
            <a:ext cx="1888920" cy="1922760"/>
          </a:xfrm>
          <a:prstGeom prst="rect">
            <a:avLst/>
          </a:prstGeom>
          <a:ln w="0">
            <a:noFill/>
          </a:ln>
        </p:spPr>
      </p:pic>
      <p:sp>
        <p:nvSpPr>
          <p:cNvPr id="167" name="">
            <a:hlinkClick r:id="rId3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5640" y="5790960"/>
            <a:ext cx="441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BMW 5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219320" y="609480"/>
            <a:ext cx="632448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14240" y="6095880"/>
            <a:ext cx="3886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Ferrari 3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066680" y="914400"/>
            <a:ext cx="624852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95120" y="5562360"/>
            <a:ext cx="35816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Ferrari 3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447920" y="1676520"/>
            <a:ext cx="57150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8:55:52Z</dcterms:created>
  <dc:creator>www.free-powerpoints.goedbegin.be </dc:creator>
  <dc:description/>
  <dc:language>en-US</dc:language>
  <cp:lastModifiedBy>Smets</cp:lastModifiedBy>
  <dcterms:modified xsi:type="dcterms:W3CDTF">2009-11-23T19:33:38Z</dcterms:modified>
  <cp:revision>194</cp:revision>
  <dc:subject/>
  <dc:title>Dia 1</dc:title>
</cp:coreProperties>
</file>