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43.gif" ContentType="image/gif"/>
  <Override PartName="/ppt/media/image45.png" ContentType="image/png"/>
  <Override PartName="/ppt/media/image46.jpeg" ContentType="image/jpeg"/>
  <Override PartName="/ppt/media/image47.jpeg" ContentType="image/jpeg"/>
  <Override PartName="/ppt/media/Digitale%20Stem%20-%20o%20neeeeee.wav" ContentType="audio/x-wav"/>
  <Override PartName="/ppt/media/image49.jpeg" ContentType="image/jpeg"/>
  <Override PartName="/ppt/media/image51.png" ContentType="image/png"/>
  <Override PartName="/ppt/media/image41.png" ContentType="image/png"/>
  <Override PartName="/ppt/media/image53.jpeg" ContentType="image/jpeg"/>
  <Override PartName="/ppt/media/Crazy%20land%2021%207%20sec.wav" ContentType="audio/x-wav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683-F9D4-4566-A664-9920A8A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914-7A85-4D1C-A30D-FE2437A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D04-ECF2-416A-9EA6-32871128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6DD-431C-4054-8B83-DF4155D3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830-7A34-4A80-8E22-F41126E6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B7F-1BDA-4C7C-9B0F-CA9D409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40F-171E-4EC5-8CE3-2EEDD7D2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0E1-E38B-4968-A07F-F761535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876-93C0-42F2-B02C-45DEF3A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0A3-8747-4293-A302-78FB199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962-D8C6-4093-B9F0-456042A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564-2A9F-4CEE-AEF4-02681ED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2D9D-6670-4FC3-AC0C-5C5D9BA6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25.xml"/><Relationship Id="rId5" Type="http://schemas.openxmlformats.org/officeDocument/2006/relationships/slide" Target="slide39.xml"/><Relationship Id="rId6" Type="http://schemas.openxmlformats.org/officeDocument/2006/relationships/slide" Target="slide42.xm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razy%20land%2021%207%20sec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" Target="slide1.xml"/><Relationship Id="rId4" Type="http://schemas.openxmlformats.org/officeDocument/2006/relationships/audio" Target="../media/Digitale%20Stem%20-%20o%20neeeee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 grapje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Voi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or het wer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or ondernem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or, tijdens,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Voorlich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58669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F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553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579132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Testaro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29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5638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u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915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58669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mborghini Diab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543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ercedes CL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7724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edes S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573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nt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zzl C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7596360" y="5300640"/>
            <a:ext cx="1295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t u verdient als werk ruim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760" y="15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bedrijfswage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792000"/>
            <a:ext cx="9144000" cy="606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920" y="15228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n parkeerplaats, met een uitzic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evelingsw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8040" y="15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n fijne werksfe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644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7280" y="18288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kanti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760" y="1522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pc’ t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6240" y="15228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vergaderzaalt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op met dromen !</a:t>
            </a:r>
            <a:br>
              <a:rPr sz="4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k liever ve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0" r="0" b="11157"/>
          <a:stretch/>
        </p:blipFill>
        <p:spPr>
          <a:xfrm>
            <a:off x="755640" y="1728720"/>
            <a:ext cx="7696080" cy="512928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1371600"/>
            <a:ext cx="6858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Het geld ligt op de str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Men kan met een klein startkapitaal een koeriersdienst beg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38280" y="95400"/>
            <a:ext cx="6067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60199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rche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38921" t="0" r="0" b="52560"/>
          <a:stretch/>
        </p:blipFill>
        <p:spPr>
          <a:xfrm>
            <a:off x="1763640" y="1916280"/>
            <a:ext cx="5121360" cy="43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  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0320" y="404640"/>
            <a:ext cx="72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VOOR, TIJDENS  en  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0199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udi 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50788" r="40867" b="0"/>
          <a:stretch/>
        </p:blipFill>
        <p:spPr>
          <a:xfrm>
            <a:off x="1835280" y="1773360"/>
            <a:ext cx="492732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99"/>
                </a:solidFill>
                <a:latin typeface="Arial"/>
              </a:rPr>
              <a:t>VOOR, TIJDENS en 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196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   TIJ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62922" t="50788" r="0" b="0"/>
          <a:stretch/>
        </p:blipFill>
        <p:spPr>
          <a:xfrm>
            <a:off x="3139920" y="1844640"/>
            <a:ext cx="28670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99"/>
                </a:solidFill>
                <a:latin typeface="Arial"/>
              </a:rPr>
              <a:t>VOOR, TIJDENS en 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3  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91764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00"/>
                </a:solidFill>
                <a:latin typeface="Comix"/>
              </a:rPr>
              <a:t>Als vader zijnde zul je op een gegeven moment door je zoon geconfronteerd worden met ee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00"/>
                </a:solidFill>
                <a:latin typeface="Comix"/>
              </a:rPr>
              <a:t>overrompelende vraa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2214720"/>
            <a:ext cx="4859280" cy="464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2590920"/>
            <a:ext cx="4191120" cy="533160"/>
          </a:xfrm>
          <a:prstGeom prst="wedgeRoundRectCallout">
            <a:avLst>
              <a:gd name="adj1" fmla="val -113296"/>
              <a:gd name="adj2" fmla="val 36458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Pappa, waar kom ik vandaan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5680" y="2009880"/>
            <a:ext cx="879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Je beseft dat je zoon nog te jong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voor een verhaal van vleselijke l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en het verhaal over de bloemetjes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de bijtjes is niet meer van deze tij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Dus zit er niets anders op d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95360" y="191916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 u="sng">
                <a:solidFill>
                  <a:srgbClr val="ffff00"/>
                </a:solidFill>
                <a:uFillTx/>
                <a:latin typeface="ComicType-Heavy"/>
              </a:rPr>
              <a:t>Voorlicht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 u="sng">
                <a:solidFill>
                  <a:srgbClr val="ffff00"/>
                </a:solidFill>
                <a:uFillTx/>
                <a:latin typeface="ComicType-Heavy"/>
              </a:rPr>
              <a:t>anno 2005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297320" y="-144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6248520"/>
            <a:ext cx="3657600" cy="504720"/>
          </a:xfrm>
          <a:prstGeom prst="wedgeRoundRectCallout">
            <a:avLst>
              <a:gd name="adj1" fmla="val -2472"/>
              <a:gd name="adj2" fmla="val -20062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Jongen, ik heb je mo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97320" y="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6208560"/>
            <a:ext cx="3276720" cy="649440"/>
          </a:xfrm>
          <a:prstGeom prst="wedgeRoundRectCallout">
            <a:avLst>
              <a:gd name="adj1" fmla="val -1694"/>
              <a:gd name="adj2" fmla="val -15806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Leren kennen tijd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het ch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95640" y="1803240"/>
            <a:ext cx="4537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97320" y="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019920"/>
            <a:ext cx="3733920" cy="720720"/>
          </a:xfrm>
          <a:prstGeom prst="wedgeRoundRectCallout">
            <a:avLst>
              <a:gd name="adj1" fmla="val -1486"/>
              <a:gd name="adj2" fmla="val -11718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En we hebben elkaar daarna  ontmoet in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0920" y="62485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MW 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200" y="6095880"/>
            <a:ext cx="3856320" cy="720720"/>
          </a:xfrm>
          <a:prstGeom prst="wedgeRoundRectCallout">
            <a:avLst>
              <a:gd name="adj1" fmla="val -9240"/>
              <a:gd name="adj2" fmla="val -12951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Het klikte zó goed, dat we daar op de toil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27640" y="3009960"/>
            <a:ext cx="4716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18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71484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24360" y="5877000"/>
            <a:ext cx="3467160" cy="647640"/>
          </a:xfrm>
          <a:prstGeom prst="wedgeRoundRectCallout">
            <a:avLst>
              <a:gd name="adj1" fmla="val -112500"/>
              <a:gd name="adj2" fmla="val -11029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een verbinding tot stand hebben doen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095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713040" cy="5181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86200" y="5715000"/>
            <a:ext cx="3695760" cy="966960"/>
          </a:xfrm>
          <a:prstGeom prst="wedgeRoundRectCallout">
            <a:avLst>
              <a:gd name="adj1" fmla="val -107347"/>
              <a:gd name="adj2" fmla="val -7462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op dat moment heeft mama een paar downloads gedaan met papa’s memory-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6060960"/>
            <a:ext cx="3399120" cy="720720"/>
          </a:xfrm>
          <a:prstGeom prst="wedgeRoundRectCallout">
            <a:avLst>
              <a:gd name="adj1" fmla="val -2777"/>
              <a:gd name="adj2" fmla="val -12753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maar voordat papa kl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was met de up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51280" y="2994120"/>
            <a:ext cx="5292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200" y="5997600"/>
            <a:ext cx="4465800" cy="784080"/>
          </a:xfrm>
          <a:prstGeom prst="wedgeRoundRectCallout">
            <a:avLst>
              <a:gd name="adj1" fmla="val -15550"/>
              <a:gd name="adj2" fmla="val -111944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stelden we vast dat we g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firewall hadden geïnstall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05240" y="1341360"/>
            <a:ext cx="3938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92360" y="3376440"/>
            <a:ext cx="5651640" cy="3481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6058080"/>
            <a:ext cx="3048120" cy="647640"/>
          </a:xfrm>
          <a:prstGeom prst="wedgeRoundRectCallout">
            <a:avLst>
              <a:gd name="adj1" fmla="val -1666"/>
              <a:gd name="adj2" fmla="val -12843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en aangezien het 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laat was voor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172200"/>
            <a:ext cx="2286000" cy="533520"/>
          </a:xfrm>
          <a:prstGeom prst="wedgeRoundRectCallout">
            <a:avLst>
              <a:gd name="adj1" fmla="val -1805"/>
              <a:gd name="adj2" fmla="val -16845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x"/>
              </a:rPr>
              <a:t>of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564000" y="1474920"/>
            <a:ext cx="5580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200" y="6095880"/>
            <a:ext cx="3475080" cy="648000"/>
          </a:xfrm>
          <a:prstGeom prst="wedgeRoundRectCallout">
            <a:avLst>
              <a:gd name="adj1" fmla="val -7101"/>
              <a:gd name="adj2" fmla="val -13578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zaten we na  negen maanden met een vir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5435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90720" y="3240"/>
            <a:ext cx="7162560" cy="685008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60199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MW X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1888920" cy="19227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57909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MW 5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58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3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562360"/>
            <a:ext cx="3581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1-23T19:33:38Z</dcterms:modified>
  <cp:revision>194</cp:revision>
  <dc:subject/>
  <dc:title>Dia 1</dc:title>
</cp:coreProperties>
</file>