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45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C04-DEDA-46AA-8874-03BC6454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7E6-8F90-4294-B66C-F783DBD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181-38CC-4AF3-A70A-8F958950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BAB-AA73-4ADB-B5E7-F5E6766F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389A-C3FB-4289-A084-08DC1AED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86E0-0BCF-4DDF-9BBF-AD3652E4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A5BC-ED28-4AB0-AF83-6F9E3124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BA92-73F1-467B-B1BF-C1A0CF3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6AD6-C24D-4E28-A3A5-44DB6E26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3018-719F-45B9-8FA1-65271B21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9384-5A2B-4A86-8CA7-5F3BC75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1A7-5681-4DFA-978E-8AE0BCFC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1691-DD90-405D-BAE8-26893FAE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0500-6FA8-4F8C-98BB-FA95D38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0332-2659-4B96-814F-DAC5699A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C863-725F-4D15-A582-7F71DB8D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3FFD-01B1-4D9E-967B-2577AB54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07F-E824-4A92-AC11-BB31A0CF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E74-4472-401A-AB2E-CF298F1E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C26-3E65-4081-87D3-72BD45A4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6B9-3629-499C-9C8A-4B7B3EFA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FEB-ACEF-45AF-AA79-C82D2A7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4BA-3361-4B17-89D9-29BB419E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CD6-7C73-4B1B-8DA9-4BD32D18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819ae6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FCAC-7635-4C65-B6B6-2DF0B6A9527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819ae6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A549-6B86-4604-825D-18D5A7F44F9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image" Target="../media/image45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0000" spc="-1" strike="noStrike">
                <a:solidFill>
                  <a:srgbClr val="ffffff"/>
                </a:solidFill>
                <a:latin typeface="Times New Roman"/>
              </a:rPr>
              <a:t>KAKO PRIDELUJEJO PERLE</a:t>
            </a:r>
            <a:r>
              <a:rPr b="1" i="1" lang="sl-SI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j"/>
          <p:cNvPicPr/>
          <p:nvPr/>
        </p:nvPicPr>
        <p:blipFill>
          <a:blip r:embed="rId1"/>
          <a:stretch/>
        </p:blipFill>
        <p:spPr>
          <a:xfrm>
            <a:off x="2050920" y="0"/>
            <a:ext cx="50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k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l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n"/>
          <p:cNvPicPr/>
          <p:nvPr/>
        </p:nvPicPr>
        <p:blipFill>
          <a:blip r:embed="rId1"/>
          <a:stretch/>
        </p:blipFill>
        <p:spPr>
          <a:xfrm>
            <a:off x="971640" y="549360"/>
            <a:ext cx="7272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B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a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E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G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I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K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L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M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3"/>
          <p:cNvSpPr/>
          <p:nvPr/>
        </p:nvSpPr>
        <p:spPr>
          <a:xfrm>
            <a:off x="0" y="3357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0" descr="b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N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O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R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S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T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U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V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Z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Ž"/>
          <p:cNvPicPr/>
          <p:nvPr/>
        </p:nvPicPr>
        <p:blipFill>
          <a:blip r:embed="rId1"/>
          <a:stretch/>
        </p:blipFill>
        <p:spPr>
          <a:xfrm>
            <a:off x="1238400" y="1219320"/>
            <a:ext cx="6667200" cy="441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Ž1"/>
          <p:cNvPicPr/>
          <p:nvPr/>
        </p:nvPicPr>
        <p:blipFill>
          <a:blip r:embed="rId2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c"/>
          <p:cNvPicPr/>
          <p:nvPr/>
        </p:nvPicPr>
        <p:blipFill>
          <a:blip r:embed="rId1"/>
          <a:stretch/>
        </p:blipFill>
        <p:spPr>
          <a:xfrm>
            <a:off x="205092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Ž2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Ž3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Ž4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819ae6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Ž5"/>
          <p:cNvPicPr/>
          <p:nvPr/>
        </p:nvPicPr>
        <p:blipFill>
          <a:blip r:embed="rId1"/>
          <a:stretch/>
        </p:blipFill>
        <p:spPr>
          <a:xfrm>
            <a:off x="539640" y="0"/>
            <a:ext cx="7921800" cy="57592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129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684360" y="620640"/>
            <a:ext cx="784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R E S   L E P O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611280" y="3429000"/>
            <a:ext cx="7921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E N K R A T N O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č"/>
          <p:cNvPicPr/>
          <p:nvPr/>
        </p:nvPicPr>
        <p:blipFill>
          <a:blip r:embed="rId1"/>
          <a:stretch/>
        </p:blipFill>
        <p:spPr>
          <a:xfrm>
            <a:off x="1957320" y="-61920"/>
            <a:ext cx="522936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5:48:43Z</dcterms:created>
  <dc:creator>Ruvl</dc:creator>
  <dc:description/>
  <dc:language>en-US</dc:language>
  <cp:lastModifiedBy>Smets</cp:lastModifiedBy>
  <dcterms:modified xsi:type="dcterms:W3CDTF">2011-12-27T03:23:33Z</dcterms:modified>
  <cp:revision>13</cp:revision>
  <dc:subject/>
  <dc:title>Parels</dc:title>
</cp:coreProperties>
</file>