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14C-6B63-4BCD-BA26-50BEA8B0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036-A44D-4DF1-BB0F-2AC4F115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18-B0F9-482C-B06B-5B963366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D6C-8AED-4156-B2CF-3B08DF52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248-97C9-48B0-BAE0-861E064D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D00-A485-461A-B5D6-C7F2F25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742-E8CC-4334-93E6-9C190B4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D57-9956-416A-8896-8A7AE7FE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72D-AC55-4E17-BA85-5FC3471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0F3-3F83-46D1-87D8-FE23B948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5CC-A49C-452B-A02B-7B249F6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46B-928E-4A83-AF47-3DF2040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35CD-0EF3-4CD3-BFFF-D45646AD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457200" y="685800"/>
            <a:ext cx="83818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S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EDIAAN BENCANA DAN RANCANGAN BANTUAN BULAN SABIT MERAH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2971800" y="8380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3048120" y="1143000"/>
            <a:ext cx="609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2666880" y="990720"/>
            <a:ext cx="6098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3200400" y="13716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9"/>
          <p:cNvSpPr/>
          <p:nvPr/>
        </p:nvSpPr>
        <p:spPr>
          <a:xfrm>
            <a:off x="1307160" y="320760"/>
            <a:ext cx="75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J/K PERKHIDMATAN KECEMASAN KEBANGS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ULAN SABIT MERAH MALAY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7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8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226080" y="1219320"/>
            <a:ext cx="886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GAS PEN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khidmatan kecemasan Ambulans 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khidmatan persediaan dan bantu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-116280" y="1268280"/>
            <a:ext cx="903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anan ut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antu Kementerian kebajian masyara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ruskan pusat pemin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s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i makan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agihkan bek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aikpulih mangsa-man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8"/>
          <p:cNvGraphicFramePr/>
          <p:nvPr/>
        </p:nvGraphicFramePr>
        <p:xfrm>
          <a:off x="1295280" y="1538280"/>
          <a:ext cx="662940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8280"/>
                    <a:ext cx="662940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9"/>
          <p:cNvSpPr/>
          <p:nvPr/>
        </p:nvSpPr>
        <p:spPr>
          <a:xfrm>
            <a:off x="74520" y="1268280"/>
            <a:ext cx="905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Bantuan Ring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cru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er dap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sak untuk 250 orang / 1 j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er boleh menyimpan makanan 1,000 or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Unit Bantuan Ber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ua kali ganda Unit Bantuan Ri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52280" y="6324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1295280" y="1538280"/>
          <a:ext cx="662940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8280"/>
                    <a:ext cx="662940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75600" y="1268280"/>
            <a:ext cx="891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Unit Penyelamat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punyai 19 Unit Penyelam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uah landcru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er dengan bot penyelamatan dan enjin 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 boleh memuatkan 6 ~ 15 or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1295280" y="1538280"/>
          <a:ext cx="662940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8280"/>
                    <a:ext cx="662940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9"/>
          <p:cNvSpPr/>
          <p:nvPr/>
        </p:nvSpPr>
        <p:spPr>
          <a:xfrm>
            <a:off x="74520" y="1268280"/>
            <a:ext cx="801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ga Manu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ukan Bantuan Sukarela (V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li-ahli b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karelawan 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deraan Tamb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ambulans (24 jam) di KL dan P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uah kenderaan kawalan perhubun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dio VH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uah kenderaan kawalan penera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enerator, pembesar sua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1295280" y="1538280"/>
          <a:ext cx="662940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8280"/>
                    <a:ext cx="662940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9"/>
          <p:cNvSpPr/>
          <p:nvPr/>
        </p:nvSpPr>
        <p:spPr>
          <a:xfrm>
            <a:off x="-44640" y="1359000"/>
            <a:ext cx="892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) Cawangan dan daerah BSMM hendakl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asa berhubung rapat dan kerjas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an Jabatan Kebajikan Masyara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ku panduaan kerja-kerja bencana a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ngatur / melicinkan k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usat-pusat pemindahan/bant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ekalan makanan mencuku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ekalan selimat, tikar dan paka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endapatkan kerjasama dengan badan 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303200" y="3207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ANAN DAN TANGGUNGJAWAB BS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380880"/>
            <a:ext cx="609480" cy="5335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685800"/>
            <a:ext cx="609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8600" y="533520"/>
            <a:ext cx="60948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52280" y="76212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762120" y="228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1295280" y="1538280"/>
          <a:ext cx="662940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8280"/>
                    <a:ext cx="662940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9"/>
          <p:cNvSpPr/>
          <p:nvPr/>
        </p:nvSpPr>
        <p:spPr>
          <a:xfrm>
            <a:off x="-344160" y="1359000"/>
            <a:ext cx="914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) Mobilisasi (pergerakan) dan penyelar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ber tenaga manusia dan alatan-ala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) Ko-ordinasi dengan agensi-agensi 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09:30Z</dcterms:created>
  <dc:creator>KPM</dc:creator>
  <dc:description/>
  <dc:language>en-US</dc:language>
  <cp:lastModifiedBy>User</cp:lastModifiedBy>
  <dcterms:modified xsi:type="dcterms:W3CDTF">2011-12-10T17:10:26Z</dcterms:modified>
  <cp:revision>35</cp:revision>
  <dc:subject/>
  <dc:title>Slide 1</dc:title>
</cp:coreProperties>
</file>