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1D2-0A4F-46B1-8F9D-98D8361AA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0C0D-E871-4739-9AB3-F494F312302D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FF4-5936-41F5-9CB7-4EA0269F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68E-9B7E-4073-8F6B-B7ECCFB6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BE6-82B1-4AEE-865E-77698098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9B2-E4A0-4979-9A44-72565946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86E-C38D-488A-AC5B-74AC6829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497-989C-4D22-A5C4-8DFB541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80C-B722-439F-91B8-21638EB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724-5F70-4B0C-9F53-562EAAF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420-A727-42DD-BF8E-768CDEA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C33-B4E3-4A41-90DD-DAC02E6B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5BA-5010-401B-8853-7B47516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AE0-123E-43A5-9382-3ADEE9B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E4D5-E26D-4343-8DEE-919AD8CEC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E:\ELISA\ERLANGGA LISA\2017\TEMPLATE PPT\SMA Matematika X K13N kelompok wajib\SMA Matematika X K13N kelompok wajib banner.png"/>
          <p:cNvPicPr/>
          <p:nvPr/>
        </p:nvPicPr>
        <p:blipFill>
          <a:blip r:embed="rId2"/>
          <a:stretch/>
        </p:blipFill>
        <p:spPr>
          <a:xfrm>
            <a:off x="-4680" y="6235560"/>
            <a:ext cx="914868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ELISA\ERLANGGA LISA\2017\TEMPLATE PPT\SMA Matematika X K13N kelompok wajib\SMA Matematika X K13N kelompok wajib banner.png"/>
          <p:cNvPicPr/>
          <p:nvPr/>
        </p:nvPicPr>
        <p:blipFill>
          <a:blip r:embed="rId2"/>
          <a:stretch/>
        </p:blipFill>
        <p:spPr>
          <a:xfrm>
            <a:off x="-4680" y="6235560"/>
            <a:ext cx="914868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6654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0" y="4648320"/>
            <a:ext cx="9144000" cy="160020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istem Persamaan Lin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324480" y="4267080"/>
            <a:ext cx="2819520" cy="3070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Calibri"/>
              </a:rPr>
              <a:t>Sumber: </a:t>
            </a:r>
            <a:r>
              <a:rPr b="0" i="1" lang="en-US" sz="1400" spc="-1" strike="noStrike">
                <a:solidFill>
                  <a:srgbClr val="1f497d"/>
                </a:solidFill>
                <a:latin typeface="Calibri"/>
                <a:ea typeface="Calibri"/>
              </a:rPr>
              <a:t>www.shutterstock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255600" y="1270080"/>
            <a:ext cx="53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Calibri"/>
              </a:rPr>
              <a:t>A. Metode substitus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5600" y="1676520"/>
            <a:ext cx="561168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entukan himpunan penyelesaian dari sistem persamaa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7 ...(1)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2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18120" y="1712880"/>
            <a:ext cx="2847960" cy="414828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6"/>
          <p:cNvSpPr/>
          <p:nvPr/>
        </p:nvSpPr>
        <p:spPr>
          <a:xfrm>
            <a:off x="255600" y="298440"/>
            <a:ext cx="8610480" cy="95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3.1.2 MENYELESAIKAN SISTEM PERSAMAAN LINEAR SECARA ALJAB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152280" y="2682720"/>
            <a:ext cx="495324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04920" y="412920"/>
            <a:ext cx="861048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Contoh 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elesaikanlah sistem persamaan berik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3 dan 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4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Rectangle 6" descr=""/>
          <p:cNvPicPr/>
          <p:nvPr/>
        </p:nvPicPr>
        <p:blipFill>
          <a:blip r:embed="rId1"/>
          <a:stretch/>
        </p:blipFill>
        <p:spPr>
          <a:xfrm>
            <a:off x="158760" y="1743120"/>
            <a:ext cx="8802720" cy="380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09480" y="10922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5520" y="1209600"/>
            <a:ext cx="860760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elesaikan sistem persamaan di bawah i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. {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...(1)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11 ...(2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. {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3 ...(1)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5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7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52280" y="152280"/>
            <a:ext cx="8610840" cy="95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B. METODE ELIMINA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3505320" y="2846520"/>
            <a:ext cx="5257800" cy="3173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Untuk mencari nila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, kita eliminir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engan terlebih dahulu menyamakan koefisienny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× 6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18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11 × 3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→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18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−3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––––––––––––––––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adi,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 dan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55520" y="2198520"/>
            <a:ext cx="860760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Karena koefisien variabel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ama yaitu 1, maka eliminasi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engan mengurang Persamaan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dengan Persamaan (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−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9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04920" y="1474920"/>
            <a:ext cx="8458200" cy="916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libri"/>
              </a:rPr>
              <a:t>Contoh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lesaikanlah setiap sistem persamaan di bawah i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. {2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9 ...(1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2 ...(2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. {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7 ...(1)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− 6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= 16 ...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7" descr=""/>
          <p:cNvPicPr/>
          <p:nvPr/>
        </p:nvPicPr>
        <p:blipFill>
          <a:blip r:embed="rId1"/>
          <a:stretch/>
        </p:blipFill>
        <p:spPr>
          <a:xfrm>
            <a:off x="212760" y="2567160"/>
            <a:ext cx="8596440" cy="358920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le 6"/>
          <p:cNvSpPr/>
          <p:nvPr/>
        </p:nvSpPr>
        <p:spPr>
          <a:xfrm>
            <a:off x="304920" y="446040"/>
            <a:ext cx="8458200" cy="87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C. METODE GABUNGAN SUBSTITUSI DAN ELIMINA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44440" y="357120"/>
            <a:ext cx="868680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. • Kalikan Persamaan (1) dengan 4 dan Persamaan (2) dengan 3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gar koefisie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am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7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× 4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28 ...(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– 6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6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× 3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18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48 ...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74600" y="3968640"/>
            <a:ext cx="8756640" cy="2203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174600" y="1835280"/>
            <a:ext cx="875664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04920" y="3911760"/>
            <a:ext cx="8610480" cy="201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istem persamaan tersebut akan diselesaikan dengan metode gabungan eliminasi-substitusi. Kalikan Persamaan (3) dengan 2, kurangkan dengan Persamaan (4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7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× 2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6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× 1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= 1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––––––––––––––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–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8"/>
          <p:cNvSpPr/>
          <p:nvPr/>
        </p:nvSpPr>
        <p:spPr>
          <a:xfrm>
            <a:off x="2527200" y="4495680"/>
            <a:ext cx="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9"/>
          <p:cNvSpPr/>
          <p:nvPr/>
        </p:nvSpPr>
        <p:spPr>
          <a:xfrm>
            <a:off x="3048120" y="4495680"/>
            <a:ext cx="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228600" y="2260440"/>
            <a:ext cx="8686800" cy="165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61048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349200" y="1295280"/>
            <a:ext cx="8458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51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52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Content Placeholder 2"/>
          <p:cNvSpPr/>
          <p:nvPr/>
        </p:nvSpPr>
        <p:spPr>
          <a:xfrm>
            <a:off x="3352680" y="121932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ENYELESAIKAN SISTEM PERSAMAAN LINEAR SECARA ALJABAR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2 - 4 pada  halaman 80, 82 dan 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295200" y="1522440"/>
            <a:ext cx="8458200" cy="2409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900" spc="-1" strike="noStrike">
                <a:solidFill>
                  <a:srgbClr val="000000"/>
                </a:solidFill>
                <a:latin typeface="Calibri"/>
              </a:rPr>
              <a:t>Contoh 9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Suatu latihan perang melibatkan 1.000 personel tentara dan 100 ton perlengkapan perang. Untuk menuju lokasi latihan disediakan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(i) pesawat Hercules, yang kapasitasnya 50 orang (tentara) dan 10 ton perlengkapan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(ii) helikopter yang kapasitasnya 40 orang (tentara) dan 3 ton perlengkapan.</a:t>
            </a:r>
            <a:r>
              <a:rPr b="1" lang="id-ID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Berapa banyak masing-masing tipe pesawat yang dibutuhkan untuk mengangkut semua tentara dan perlengkapan dalam satu kali keberangkatan?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60280" y="3759120"/>
            <a:ext cx="8493120" cy="2120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900" spc="-1" strike="noStrike">
                <a:solidFill>
                  <a:srgbClr val="000000"/>
                </a:solidFill>
                <a:latin typeface="Calibri"/>
              </a:rPr>
              <a:t>Jawab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isalkan 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ewakili banyak pesawat Hercules da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mewakili banyak helikopt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Dari informasi tersebut dapat disusu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sistem persamaan linear (dua persamaan), yaitu: Personel tentara (orang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1.000 = 5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+ 4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...(1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Perlengkapan (to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100 = 10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19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900" spc="-1" strike="noStrike">
                <a:solidFill>
                  <a:srgbClr val="000000"/>
                </a:solidFill>
                <a:latin typeface="Calibri"/>
              </a:rPr>
              <a:t>...(2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ounded Rectangle 6"/>
          <p:cNvSpPr/>
          <p:nvPr/>
        </p:nvSpPr>
        <p:spPr>
          <a:xfrm>
            <a:off x="295200" y="297000"/>
            <a:ext cx="845820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993600" indent="-993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1.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ASALAH YANG MELIBATKAN SISTEM PERSAMAAN LINEAR DU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Diagram 4" descr=""/>
          <p:cNvPicPr/>
          <p:nvPr/>
        </p:nvPicPr>
        <p:blipFill>
          <a:blip r:embed="rId1"/>
          <a:stretch/>
        </p:blipFill>
        <p:spPr>
          <a:xfrm>
            <a:off x="444600" y="536400"/>
            <a:ext cx="8334360" cy="540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" y="1395360"/>
            <a:ext cx="8229600" cy="375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engan mengeliminasi variabel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mak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(1) × 1 → 5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.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(2) × 5 → 5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= 20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(20) = 1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diperlukan 4 pesawat Hercules dan 20 helikop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61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Content Placeholder 2"/>
          <p:cNvSpPr/>
          <p:nvPr/>
        </p:nvSpPr>
        <p:spPr>
          <a:xfrm>
            <a:off x="3352680" y="137160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ASALAH YANG MELIBATKAN SISTEM PERSAMAAN LINEAR DUA VARIABEL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5 pada halaman  8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ounded Rectangle 6"/>
          <p:cNvSpPr/>
          <p:nvPr/>
        </p:nvSpPr>
        <p:spPr>
          <a:xfrm>
            <a:off x="419040" y="685800"/>
            <a:ext cx="83059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  SISTEM PERSAMAAN LINEAR TIGA VARI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304920" y="2006640"/>
            <a:ext cx="842004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07800" y="1762200"/>
            <a:ext cx="84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0000"/>
                </a:solidFill>
                <a:latin typeface="Calibri"/>
              </a:rPr>
              <a:t>A. Metode substitu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24000" y="2548080"/>
            <a:ext cx="8423280" cy="2838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ilihlah salah satu persamaan yang sederhana. Nyatak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bagai fungsi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titusik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, 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yang diperoleh pada Langkah 1 ke dua persamaan yang lainnya sehingga diperoleh sistem persamaan linear dua variab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 sistem persamaan linear dua variabel yang diperoleh pada Langkah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stitusikan dua nilai variabel yang diperoleh pada Langkah 3 ini ke salah satu persamaan semula untuk memperoleh nilai variabel yang ketiga.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ounded Rectangle 6"/>
          <p:cNvSpPr/>
          <p:nvPr/>
        </p:nvSpPr>
        <p:spPr>
          <a:xfrm>
            <a:off x="307800" y="177840"/>
            <a:ext cx="8439480" cy="139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03160" indent="-80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.1 MENYELESAIKAN SISTEM PERSAMAAN LINEAR TIG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90440" y="3930480"/>
            <a:ext cx="868680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4) ke Persamaan (1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(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) + 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10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42 + 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20 ...(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28600" y="763560"/>
            <a:ext cx="8648640" cy="2838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Contoh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lah himpunan penyelesaian dari sistem persamaan berikut dengan metode substitus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2 ...(1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9 ...(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1 ...(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2000" spc="-1" strike="noStrike">
                <a:solidFill>
                  <a:srgbClr val="000000"/>
                </a:solidFill>
                <a:latin typeface="Calibri"/>
              </a:rPr>
              <a:t>Jawab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 ...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429000" y="456732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 ...(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162240" y="1754280"/>
            <a:ext cx="582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4)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(–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1) +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21 + 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= 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...(5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80880" y="3205080"/>
            <a:ext cx="8415360" cy="2562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istem persamaan linear dua variabel tersebut mempunyai penyelesai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Selanjutnya, substitus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dan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4 ke Persamaan (3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5(2)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2(4) 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10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8 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18 +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Jadi, himpunan penyelesaiannya adalah {(2, 3, 4)}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65040" y="706320"/>
            <a:ext cx="399744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Persamaan (7) ke Persamaan (5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6(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) 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 4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120 = 4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  –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640400" y="730080"/>
            <a:ext cx="418284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= 2 ke Persamaan (7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8(2) 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–16 + 2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33360" y="1662120"/>
            <a:ext cx="843912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Eliminasi salah satu variabel,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hingga diperoleh sistem persamaan  linear dua variabe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elesaikan sistem persamaan linear dua variabel pada Langkah 1 sehingga diperoleh nilai dua variabel,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tau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ubtitusikan nilai-nilai variabel yang diperoleh pada Langkah 2 ke salah s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ersamaan semula untuk mendapatkan nilai variabel yang ketiga.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ounded Rectangle 6"/>
          <p:cNvSpPr/>
          <p:nvPr/>
        </p:nvSpPr>
        <p:spPr>
          <a:xfrm>
            <a:off x="333360" y="442800"/>
            <a:ext cx="8439120" cy="101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B. METODE ELIMINAS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219240" y="3795840"/>
            <a:ext cx="861984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80880" y="457200"/>
            <a:ext cx="8382240" cy="2289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Jawab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fi-FI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ari Persamaan (1) dan (2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kemudian Persamaan (2) dan (3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amaan (1)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−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ersamaan (2) × 3 → 6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 3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5 ...(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0880" y="2949480"/>
            <a:ext cx="838224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amaan (2) →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samaan (3) → 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            −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−7 ...(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171360" y="685800"/>
            <a:ext cx="457200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fi-FI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ari Persamaan (4) dan (5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4) × 3 → 21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5)       →    −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3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−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–––––––––––––––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876920" y="701640"/>
            <a:ext cx="411480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Eliminasi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dari Persamaan (4) dan (5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4)       →    7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−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  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ersamaan (5) × 7 → –7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 21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4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–––––––––––––––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–4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id-ID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=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14480" y="2754360"/>
            <a:ext cx="887724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1 dan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= 2 ke Persamaan (2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2(1) − 2 +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himpunan penyelesaiannya adalah {(1, 2, 3)}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85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86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Content Placeholder 2"/>
          <p:cNvSpPr/>
          <p:nvPr/>
        </p:nvSpPr>
        <p:spPr>
          <a:xfrm>
            <a:off x="3352680" y="137160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STEM PERSAMAAN LINEAR TIGA VARI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Latihan 6 dan 7 p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halaman  91 dan 9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ounded Rectangle 6"/>
          <p:cNvSpPr/>
          <p:nvPr/>
        </p:nvSpPr>
        <p:spPr>
          <a:xfrm>
            <a:off x="331920" y="533520"/>
            <a:ext cx="8393040" cy="95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3.1 SISTEM LINEAR DUA VARIAB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216000" y="1752480"/>
            <a:ext cx="85215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14280" y="1447920"/>
            <a:ext cx="8524800" cy="222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Contoh 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yu, Bimo, dan Candra berbelanja di sebua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toko buku secara bersamaan. Ayu membe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 set pensil, 4 penghapus, dan 1 buku tulis. Bimo membeli 6 set pensil, 2 penghapus, d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 buku tulis. Candra membeli 2 set pensil,5 penghapus, dan 10 buku tulis. Di kasi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Ayu membayar Rp83.000,00; Bimo membayar Rp86.000,00; dan Candra membayar Rp158.000,00. Berapa harga masing-masing benda terseb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ounded Rectangle 6"/>
          <p:cNvSpPr/>
          <p:nvPr/>
        </p:nvSpPr>
        <p:spPr>
          <a:xfrm>
            <a:off x="314280" y="279360"/>
            <a:ext cx="8439120" cy="101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98560" indent="-89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2.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ASALAH YANG MELIBATKAN SISTE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RSAMAAN LINEAR TIGA VARIAB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61048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457200" y="1179360"/>
            <a:ext cx="8229600" cy="411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1) dan Persamaan (2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–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–3.000 ...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2) dan Persamaan (3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.000     × 10   6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2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860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158.000   × 1        2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0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z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158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––––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702.000 ...(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6"/>
          <p:cNvSpPr/>
          <p:nvPr/>
        </p:nvSpPr>
        <p:spPr>
          <a:xfrm>
            <a:off x="3505320" y="3908520"/>
            <a:ext cx="0" cy="533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7"/>
          <p:cNvSpPr/>
          <p:nvPr/>
        </p:nvSpPr>
        <p:spPr>
          <a:xfrm>
            <a:off x="4267080" y="3908520"/>
            <a:ext cx="0" cy="54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457200" y="1600200"/>
            <a:ext cx="830592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liminasi Persamaan (4) dan Persamaan (5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3.000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× 15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–45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30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–45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15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702.000 × 2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116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30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.404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   ––––––––––––––––––––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        –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–1.449.0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= 9.000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614520"/>
            <a:ext cx="8704440" cy="210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fi-FI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= 9.000 ke Persamaan (4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(9.000) 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–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7.000 + 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–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24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12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28600" y="2914560"/>
            <a:ext cx="8704440" cy="2775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bstitusi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= 9.000 dan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= 12.000 ke Persamaan (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4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3(9.000) + 4(12.000) 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27.000 + 48.000 +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3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id-ID" sz="2200" spc="-1" strike="noStrike">
                <a:solidFill>
                  <a:srgbClr val="000000"/>
                </a:solidFill>
                <a:latin typeface="Calibri"/>
              </a:rPr>
              <a:t>z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= 8.0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alibri"/>
              </a:rPr>
              <a:t>Jadi, harga 1 set pensil adalah Rp9.000,00; 1 penghapus adalah Rp12.000,00; dan 1 buku tulis adalah Rp8.000,0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99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200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Content Placeholder 2"/>
          <p:cNvSpPr/>
          <p:nvPr/>
        </p:nvSpPr>
        <p:spPr>
          <a:xfrm>
            <a:off x="3352680" y="144792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MASALAH YANG MELIBATKAN SISTEM PERSAMAAN LINEAR TIGA VARIAB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0000"/>
                </a:solidFill>
                <a:latin typeface="Calibri"/>
              </a:rPr>
              <a:t>Latihan 8 pada halaman  9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82520" y="3276720"/>
            <a:ext cx="8697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wab:  Langkah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entukan titik potong deng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5960" y="4316400"/>
            <a:ext cx="2179440" cy="124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224240" y="4325760"/>
            <a:ext cx="2176560" cy="123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3"/>
          <a:stretch/>
        </p:blipFill>
        <p:spPr>
          <a:xfrm>
            <a:off x="182520" y="1752480"/>
            <a:ext cx="8697960" cy="12844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le 6"/>
          <p:cNvSpPr/>
          <p:nvPr/>
        </p:nvSpPr>
        <p:spPr>
          <a:xfrm>
            <a:off x="182520" y="380880"/>
            <a:ext cx="8697960" cy="124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 marL="898560" indent="-89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3.1.1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MENYELESAIKAN SISTEM PERSAMAAN LINEA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DENGAN METODE GRAFI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74680" y="3254400"/>
            <a:ext cx="484668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Langkah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ulislah koordinat titik potong tersebut dalam pasangan berurutan (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, y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). Grafik pada Gambar 3.1 menunjukkan bahwa titik potong kedua garis adalah titik (5, 1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334120" y="973080"/>
            <a:ext cx="3463920" cy="4741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279360" y="1335240"/>
            <a:ext cx="484200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Langkah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ariklah garis-garis yang melalui titik poto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eng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sumbu 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14200" y="423720"/>
            <a:ext cx="8701200" cy="1922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Contoh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unjukkan dengan gambar titik potong setiap sistem persamaan di bawah ini, kemudian tulislah himpunan penyelesaianny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da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4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5 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= 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4200" y="2665440"/>
            <a:ext cx="6104160" cy="3385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alibri"/>
              </a:rPr>
              <a:t>Jawab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tik potong garis dengan sumbu-sumbu koordin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9440" y="4094280"/>
            <a:ext cx="2841480" cy="1468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514680" y="4075200"/>
            <a:ext cx="2581200" cy="14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6462720" y="2830680"/>
            <a:ext cx="2430360" cy="2960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16000" y="5695920"/>
            <a:ext cx="60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Jadi, himpunan penyelesaiannya adalah {(3, 2)}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54080" y="417600"/>
            <a:ext cx="611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68440" y="457200"/>
            <a:ext cx="2190600" cy="127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154320" y="457200"/>
            <a:ext cx="2251080" cy="127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5867280" y="446040"/>
            <a:ext cx="3048120" cy="2309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26880" y="2894040"/>
            <a:ext cx="858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di, kedua garis sejajar, maka himpunan penyelesaiannya adalah 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19160" y="3668760"/>
            <a:ext cx="576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49440" y="3780000"/>
            <a:ext cx="2190600" cy="1223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3171960" y="3778200"/>
            <a:ext cx="2182680" cy="122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5910120" y="3454560"/>
            <a:ext cx="2990880" cy="2392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23720" y="5156280"/>
            <a:ext cx="52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Jadi, kedua garis berimpit, himpunan penyelesaiannya adalah {setiap (</a:t>
            </a:r>
            <a:r>
              <a:rPr b="0" i="1" lang="id-ID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id-ID" sz="24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id-ID" sz="2400" spc="-1" strike="noStrike">
                <a:solidFill>
                  <a:srgbClr val="ff0000"/>
                </a:solidFill>
                <a:latin typeface="Calibri"/>
              </a:rPr>
              <a:t>)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5280" y="1600200"/>
            <a:ext cx="8839440" cy="443880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le 6"/>
          <p:cNvSpPr/>
          <p:nvPr/>
        </p:nvSpPr>
        <p:spPr>
          <a:xfrm>
            <a:off x="243000" y="417600"/>
            <a:ext cx="8610480" cy="95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5560" rIns="20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Berdasarkan pembahasan Contoh 2, dapat disimpulkan sebagai berik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cowo senyum"/>
          <p:cNvPicPr/>
          <p:nvPr/>
        </p:nvPicPr>
        <p:blipFill>
          <a:blip r:embed="rId1"/>
          <a:stretch/>
        </p:blipFill>
        <p:spPr>
          <a:xfrm>
            <a:off x="465120" y="2023920"/>
            <a:ext cx="2666880" cy="3772080"/>
          </a:xfrm>
          <a:prstGeom prst="rect">
            <a:avLst/>
          </a:prstGeom>
          <a:ln w="0">
            <a:noFill/>
          </a:ln>
        </p:spPr>
      </p:pic>
      <p:grpSp>
        <p:nvGrpSpPr>
          <p:cNvPr id="121" name="Oval Callout 7"/>
          <p:cNvGrpSpPr/>
          <p:nvPr/>
        </p:nvGrpSpPr>
        <p:grpSpPr>
          <a:xfrm>
            <a:off x="2730600" y="731880"/>
            <a:ext cx="5711760" cy="3645000"/>
            <a:chOff x="2730600" y="731880"/>
            <a:chExt cx="5711760" cy="3645000"/>
          </a:xfrm>
        </p:grpSpPr>
        <p:pic>
          <p:nvPicPr>
            <p:cNvPr id="122" name="Oval Callout 7" descr=""/>
            <p:cNvPicPr/>
            <p:nvPr/>
          </p:nvPicPr>
          <p:blipFill>
            <a:blip r:embed="rId2"/>
            <a:stretch/>
          </p:blipFill>
          <p:spPr>
            <a:xfrm>
              <a:off x="2730600" y="731880"/>
              <a:ext cx="571176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603600" y="1224000"/>
              <a:ext cx="3963960" cy="22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Content Placeholder 2"/>
          <p:cNvSpPr/>
          <p:nvPr/>
        </p:nvSpPr>
        <p:spPr>
          <a:xfrm>
            <a:off x="3352680" y="129528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u bisa menguji pemahaman tenta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ENYELESAIKAN SISTEM PERSAMAAN LINEAR DENGAN METODE GRAFIK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gan mengerjakan so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0000"/>
                </a:solidFill>
                <a:latin typeface="Calibri"/>
              </a:rPr>
              <a:t>Latihan 1 pada halaman 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0T09:15:15Z</dcterms:created>
  <dc:creator>Febri</dc:creator>
  <dc:description/>
  <dc:language>en-US</dc:language>
  <cp:lastModifiedBy>Taryo</cp:lastModifiedBy>
  <dcterms:modified xsi:type="dcterms:W3CDTF">2017-04-03T10:23:17Z</dcterms:modified>
  <cp:revision>122</cp:revision>
  <dc:subject/>
  <dc:title>PowerPoint Presentation</dc:title>
</cp:coreProperties>
</file>