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0EC9-A8DF-4808-AD50-D804B3E98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787F-C7D0-4592-938A-A86F73A7B1F8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16B-D678-4279-A94D-1D8BBF17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CC2-10EF-48AD-AD21-E78DD864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F80-FD8C-4B87-A684-96E25ED1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A720-CF83-4AE4-859F-DEB24105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DCC-82F6-4198-B111-77F9D5B5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D8ED-2852-482E-97D3-286F482B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FFD-870D-4A76-8341-8FDEEF79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168-5DAF-4440-9CCE-B626EA80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B68-7397-4902-9EFE-4CBC8D9F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DEA-5FA0-4E60-B987-33958392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F2BC-3A04-4815-B016-C055B581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ED7B-742C-4E40-967E-D7A9EE54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9739-AAA4-4A90-A801-010029439D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E:\ELISA\ERLANGGA LISA\2017\TEMPLATE PPT\SMA Matematika X K13N kelompok wajib\SMA Matematika X K13N kelompok wajib banner.png"/>
          <p:cNvPicPr/>
          <p:nvPr/>
        </p:nvPicPr>
        <p:blipFill>
          <a:blip r:embed="rId2"/>
          <a:stretch/>
        </p:blipFill>
        <p:spPr>
          <a:xfrm>
            <a:off x="-4680" y="6235560"/>
            <a:ext cx="914868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ELISA\ERLANGGA LISA\2017\TEMPLATE PPT\SMA Matematika X K13N kelompok wajib\SMA Matematika X K13N kelompok wajib banner.png"/>
          <p:cNvPicPr/>
          <p:nvPr/>
        </p:nvPicPr>
        <p:blipFill>
          <a:blip r:embed="rId2"/>
          <a:stretch/>
        </p:blipFill>
        <p:spPr>
          <a:xfrm>
            <a:off x="-4680" y="6235560"/>
            <a:ext cx="9148680" cy="622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-254160"/>
            <a:ext cx="9144000" cy="66549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0" y="4648320"/>
            <a:ext cx="9144000" cy="160020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istem Persamaan Line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6324480" y="4267080"/>
            <a:ext cx="2819520" cy="307080"/>
          </a:xfrm>
          <a:prstGeom prst="rect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Calibri"/>
                <a:ea typeface="Calibri"/>
              </a:rPr>
              <a:t>Sumber: </a:t>
            </a:r>
            <a:r>
              <a:rPr b="0" i="1" lang="en-US" sz="1400" spc="-1" strike="noStrike">
                <a:solidFill>
                  <a:srgbClr val="1f497d"/>
                </a:solidFill>
                <a:latin typeface="Calibri"/>
                <a:ea typeface="Calibri"/>
              </a:rPr>
              <a:t>www.shutterstock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2"/>
          <p:cNvSpPr/>
          <p:nvPr/>
        </p:nvSpPr>
        <p:spPr>
          <a:xfrm>
            <a:off x="255600" y="1270080"/>
            <a:ext cx="53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0000"/>
                </a:solidFill>
                <a:latin typeface="Calibri"/>
              </a:rPr>
              <a:t>A. Metode substitus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55600" y="1676520"/>
            <a:ext cx="5611680" cy="916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libri"/>
              </a:rPr>
              <a:t>Contoh 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Tentukan himpunan penyelesaian dari sistem persamaan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{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2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 7 ...(1)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5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 2 ...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6018120" y="1712880"/>
            <a:ext cx="2847960" cy="4148280"/>
          </a:xfrm>
          <a:prstGeom prst="rect">
            <a:avLst/>
          </a:prstGeom>
          <a:ln w="0">
            <a:noFill/>
          </a:ln>
        </p:spPr>
      </p:pic>
      <p:sp>
        <p:nvSpPr>
          <p:cNvPr id="128" name="Rounded Rectangle 6"/>
          <p:cNvSpPr/>
          <p:nvPr/>
        </p:nvSpPr>
        <p:spPr>
          <a:xfrm>
            <a:off x="255600" y="298440"/>
            <a:ext cx="8610480" cy="959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560" rIns="205560" tIns="0" bIns="0" anchor="ctr">
            <a:noAutofit/>
          </a:bodyPr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3.1.2 MENYELESAIKAN SISTEM PERSAMAAN LINEAR SECARA ALJAB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152280" y="2682720"/>
            <a:ext cx="4953240" cy="3353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304920" y="412920"/>
            <a:ext cx="8610480" cy="1191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Contoh 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Selesaikanlah sistem persamaan berik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2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− 3 dan 3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− 4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Rectangle 6" descr=""/>
          <p:cNvPicPr/>
          <p:nvPr/>
        </p:nvPicPr>
        <p:blipFill>
          <a:blip r:embed="rId1"/>
          <a:stretch/>
        </p:blipFill>
        <p:spPr>
          <a:xfrm>
            <a:off x="158760" y="1743120"/>
            <a:ext cx="8802720" cy="3803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609480" y="10922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55520" y="1209600"/>
            <a:ext cx="8607600" cy="916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libri"/>
              </a:rPr>
              <a:t>Contoh 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Selesaikan sistem persamaan di bawah in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. {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7 ...(1)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− 6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−11 ...(2)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. {2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 5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23 ...(1) 3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− 5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17 ...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ounded Rectangle 6"/>
          <p:cNvSpPr/>
          <p:nvPr/>
        </p:nvSpPr>
        <p:spPr>
          <a:xfrm>
            <a:off x="152280" y="152280"/>
            <a:ext cx="8610840" cy="959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560" rIns="20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B. METODE ELIMINAS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3505320" y="2846520"/>
            <a:ext cx="5257800" cy="3173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Untuk mencari nilai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, kita eliminir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dengan terlebih dahulu menyamakan koefisienny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7 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× 6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→ 6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 18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4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− 6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−11 × 3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→ 3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− 18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−3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––––––––––––––––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adi,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1 dan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2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155520" y="2198520"/>
            <a:ext cx="860760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Karena koefisien variabel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ama yaitu 1, maka eliminasi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dengan mengurang Persamaan (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dengan Persamaan (2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− 6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−1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––––––––––––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9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1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1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86800" cy="5592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304920" y="1474920"/>
            <a:ext cx="8458200" cy="916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libri"/>
              </a:rPr>
              <a:t>Contoh 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elesaikanlah setiap sistem persamaan di bawah in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. {2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19 ...(1)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2 ...(2)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. {3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7 ...(1)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− 6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16 ...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Rectangle 7" descr=""/>
          <p:cNvPicPr/>
          <p:nvPr/>
        </p:nvPicPr>
        <p:blipFill>
          <a:blip r:embed="rId1"/>
          <a:stretch/>
        </p:blipFill>
        <p:spPr>
          <a:xfrm>
            <a:off x="212760" y="2567160"/>
            <a:ext cx="8596440" cy="3589200"/>
          </a:xfrm>
          <a:prstGeom prst="rect">
            <a:avLst/>
          </a:prstGeom>
          <a:ln w="0">
            <a:noFill/>
          </a:ln>
        </p:spPr>
      </p:pic>
      <p:sp>
        <p:nvSpPr>
          <p:cNvPr id="140" name="Rounded Rectangle 6"/>
          <p:cNvSpPr/>
          <p:nvPr/>
        </p:nvSpPr>
        <p:spPr>
          <a:xfrm>
            <a:off x="304920" y="446040"/>
            <a:ext cx="8458200" cy="87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560" rIns="20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C. METODE GABUNGAN SUBSTITUSI DAN ELIMINAS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244440" y="357120"/>
            <a:ext cx="8686800" cy="1313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b. • Kalikan Persamaan (1) dengan 4 dan Persamaan (2) dengan 3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agar koefisien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am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7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|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× 4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 12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28 ...(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– 6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16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× 3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− 18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48 ...(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74600" y="3968640"/>
            <a:ext cx="8756640" cy="2203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174600" y="1835280"/>
            <a:ext cx="8756640" cy="207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04920" y="3911760"/>
            <a:ext cx="8610480" cy="20142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Sistem persamaan tersebut akan diselesaikan dengan metode gabungan eliminasi-substitusi. Kalikan Persamaan (3) dengan 2, kurangkan dengan Persamaan (4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= 7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× 2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= 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= 16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× 1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= 1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––––––––––––––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           –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–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traight Connector 8"/>
          <p:cNvSpPr/>
          <p:nvPr/>
        </p:nvSpPr>
        <p:spPr>
          <a:xfrm>
            <a:off x="2527200" y="4495680"/>
            <a:ext cx="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traight Connector 9"/>
          <p:cNvSpPr/>
          <p:nvPr/>
        </p:nvSpPr>
        <p:spPr>
          <a:xfrm>
            <a:off x="3048120" y="4495680"/>
            <a:ext cx="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228600" y="2260440"/>
            <a:ext cx="8686800" cy="1651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8610480" cy="1650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349200" y="1295280"/>
            <a:ext cx="84582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6" descr="cowo senyum"/>
          <p:cNvPicPr/>
          <p:nvPr/>
        </p:nvPicPr>
        <p:blipFill>
          <a:blip r:embed="rId1"/>
          <a:stretch/>
        </p:blipFill>
        <p:spPr>
          <a:xfrm>
            <a:off x="465120" y="2023920"/>
            <a:ext cx="2666880" cy="3772080"/>
          </a:xfrm>
          <a:prstGeom prst="rect">
            <a:avLst/>
          </a:prstGeom>
          <a:ln w="0">
            <a:noFill/>
          </a:ln>
        </p:spPr>
      </p:pic>
      <p:grpSp>
        <p:nvGrpSpPr>
          <p:cNvPr id="151" name="Oval Callout 7"/>
          <p:cNvGrpSpPr/>
          <p:nvPr/>
        </p:nvGrpSpPr>
        <p:grpSpPr>
          <a:xfrm>
            <a:off x="2730600" y="731880"/>
            <a:ext cx="5711760" cy="3645000"/>
            <a:chOff x="2730600" y="731880"/>
            <a:chExt cx="5711760" cy="3645000"/>
          </a:xfrm>
        </p:grpSpPr>
        <p:pic>
          <p:nvPicPr>
            <p:cNvPr id="152" name="Oval Callout 7" descr=""/>
            <p:cNvPicPr/>
            <p:nvPr/>
          </p:nvPicPr>
          <p:blipFill>
            <a:blip r:embed="rId2"/>
            <a:stretch/>
          </p:blipFill>
          <p:spPr>
            <a:xfrm>
              <a:off x="2730600" y="731880"/>
              <a:ext cx="5711760" cy="36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603600" y="1224000"/>
              <a:ext cx="3963960" cy="22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Content Placeholder 2"/>
          <p:cNvSpPr/>
          <p:nvPr/>
        </p:nvSpPr>
        <p:spPr>
          <a:xfrm>
            <a:off x="3352680" y="1219320"/>
            <a:ext cx="4419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amu bisa menguji pemahaman tentang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MENYELESAIKAN SISTEM PERSAMAAN LINEAR SECARA ALJABAR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ngan mengerjakan so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0000"/>
                </a:solidFill>
                <a:latin typeface="Calibri"/>
              </a:rPr>
              <a:t>Latihan 2 - 4 pada  halaman 80, 82 dan 8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295200" y="1522440"/>
            <a:ext cx="8458200" cy="2409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900" spc="-1" strike="noStrike">
                <a:solidFill>
                  <a:srgbClr val="000000"/>
                </a:solidFill>
                <a:latin typeface="Calibri"/>
              </a:rPr>
              <a:t>Contoh 9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Suatu latihan perang melibatkan 1.000 personel tentara dan 100 ton perlengkapan perang. Untuk menuju lokasi latihan disediakan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(i) pesawat Hercules, yang kapasitasnya 50 orang (tentara) dan 10 ton perlengkapan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(ii) helikopter yang kapasitasnya 40 orang (tentara) dan 3 ton perlengkapan.</a:t>
            </a:r>
            <a:r>
              <a:rPr b="1" lang="id-ID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Berapa banyak masing-masing tipe pesawat yang dibutuhkan untuk mengangkut semua tentara dan perlengkapan dalam satu kali keberangkatan?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60280" y="3759120"/>
            <a:ext cx="8493120" cy="2120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900" spc="-1" strike="noStrike">
                <a:solidFill>
                  <a:srgbClr val="000000"/>
                </a:solidFill>
                <a:latin typeface="Calibri"/>
              </a:rPr>
              <a:t>Jawab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Misalkan </a:t>
            </a:r>
            <a:r>
              <a:rPr b="0" i="1" lang="id-ID" sz="19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mewakili banyak pesawat Hercules dan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9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mewakili banyak helikopter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Dari informasi tersebut dapat disusun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sistem persamaan linear (dua persamaan), yaitu: Personel tentara (orang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1.000 = 50</a:t>
            </a:r>
            <a:r>
              <a:rPr b="0" i="1" lang="id-ID" sz="19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+ 40</a:t>
            </a:r>
            <a:r>
              <a:rPr b="0" i="1" lang="id-ID" sz="19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...(1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Perlengkapan (ton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100 = 10</a:t>
            </a:r>
            <a:r>
              <a:rPr b="0" i="1" lang="id-ID" sz="19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id-ID" sz="19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...(2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ounded Rectangle 6"/>
          <p:cNvSpPr/>
          <p:nvPr/>
        </p:nvSpPr>
        <p:spPr>
          <a:xfrm>
            <a:off x="295200" y="297000"/>
            <a:ext cx="8458200" cy="101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560" rIns="205560" tIns="0" bIns="0" anchor="ctr">
            <a:noAutofit/>
          </a:bodyPr>
          <a:p>
            <a:pPr marL="993600" indent="-993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3.1.3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MASALAH YANG MELIBATKAN SISTEM PERSAMAAN LINEAR DUA VARIAB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Diagram 4" descr=""/>
          <p:cNvPicPr/>
          <p:nvPr/>
        </p:nvPicPr>
        <p:blipFill>
          <a:blip r:embed="rId1"/>
          <a:stretch/>
        </p:blipFill>
        <p:spPr>
          <a:xfrm>
            <a:off x="444600" y="536400"/>
            <a:ext cx="8334360" cy="5407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57200" y="1395360"/>
            <a:ext cx="8229600" cy="375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Dengan mengeliminasi variabel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, mak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ersamaan (1) × 1 → 50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40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1.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ersamaan (2) × 5 → 50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15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5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–––––––––––––––––––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5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2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Substitusi </a:t>
            </a:r>
            <a:r>
              <a:rPr b="0" i="1" lang="fi-FI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= 20 ke Persamaan (2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1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3(20) = 1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4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Jadi, diperlukan 4 pesawat Hercules dan 20 helikopt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cowo senyum"/>
          <p:cNvPicPr/>
          <p:nvPr/>
        </p:nvPicPr>
        <p:blipFill>
          <a:blip r:embed="rId1"/>
          <a:stretch/>
        </p:blipFill>
        <p:spPr>
          <a:xfrm>
            <a:off x="465120" y="2023920"/>
            <a:ext cx="2666880" cy="3772080"/>
          </a:xfrm>
          <a:prstGeom prst="rect">
            <a:avLst/>
          </a:prstGeom>
          <a:ln w="0">
            <a:noFill/>
          </a:ln>
        </p:spPr>
      </p:pic>
      <p:grpSp>
        <p:nvGrpSpPr>
          <p:cNvPr id="160" name="Oval Callout 7"/>
          <p:cNvGrpSpPr/>
          <p:nvPr/>
        </p:nvGrpSpPr>
        <p:grpSpPr>
          <a:xfrm>
            <a:off x="2730600" y="731880"/>
            <a:ext cx="5711760" cy="3645000"/>
            <a:chOff x="2730600" y="731880"/>
            <a:chExt cx="5711760" cy="3645000"/>
          </a:xfrm>
        </p:grpSpPr>
        <p:pic>
          <p:nvPicPr>
            <p:cNvPr id="161" name="Oval Callout 7" descr=""/>
            <p:cNvPicPr/>
            <p:nvPr/>
          </p:nvPicPr>
          <p:blipFill>
            <a:blip r:embed="rId2"/>
            <a:stretch/>
          </p:blipFill>
          <p:spPr>
            <a:xfrm>
              <a:off x="2730600" y="731880"/>
              <a:ext cx="5711760" cy="36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603600" y="1224000"/>
              <a:ext cx="3963960" cy="22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Content Placeholder 2"/>
          <p:cNvSpPr/>
          <p:nvPr/>
        </p:nvSpPr>
        <p:spPr>
          <a:xfrm>
            <a:off x="3352680" y="1371600"/>
            <a:ext cx="4419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amu bisa menguji pemahaman tentang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MASALAH YANG MELIBATKAN SISTEM PERSAMAAN LINEAR DUA VARIABEL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ngan mengerjakan so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0000"/>
                </a:solidFill>
                <a:latin typeface="Calibri"/>
              </a:rPr>
              <a:t>Latihan 5 pada halaman  8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ounded Rectangle 6"/>
          <p:cNvSpPr/>
          <p:nvPr/>
        </p:nvSpPr>
        <p:spPr>
          <a:xfrm>
            <a:off x="419040" y="685800"/>
            <a:ext cx="8305920" cy="101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560" rIns="20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3.2  SISTEM PERSAMAAN LINEAR TIGA VARIAB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1"/>
          <a:stretch/>
        </p:blipFill>
        <p:spPr>
          <a:xfrm>
            <a:off x="304920" y="2006640"/>
            <a:ext cx="8420040" cy="223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307800" y="1762200"/>
            <a:ext cx="843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0000"/>
                </a:solidFill>
                <a:latin typeface="Calibri"/>
              </a:rPr>
              <a:t>A. Metode substitus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24000" y="2548080"/>
            <a:ext cx="8423280" cy="2838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ilihlah salah satu persamaan yang sederhana. Nyatakan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ebagai fungsi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, atau 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ebagai  fungsi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, atau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ebagai fungsi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ubtitusikan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, atau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, atau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yang diperoleh pada Langkah 1 ke dua persamaan yang lainnya sehingga diperoleh sistem persamaan linear dua variabe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elesaikan sistem persamaan linear dua variabel yang diperoleh pada Langkah 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ubstitusikan dua nilai variabel yang diperoleh pada Langkah 3 ini ke salah satu persamaan semula untuk memperoleh nilai variabel yang ketiga.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ounded Rectangle 6"/>
          <p:cNvSpPr/>
          <p:nvPr/>
        </p:nvSpPr>
        <p:spPr>
          <a:xfrm>
            <a:off x="307800" y="177840"/>
            <a:ext cx="8439480" cy="1396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560" rIns="205560" tIns="0" bIns="0" anchor="ctr">
            <a:noAutofit/>
          </a:bodyPr>
          <a:p>
            <a:pPr marL="803160" indent="-80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3.2.1 MENYELESAIKAN SISTEM PERSAMAAN LINEAR TIGA VARIAB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190440" y="3930480"/>
            <a:ext cx="8686800" cy="1618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Substitusi Persamaan (4) ke Persamaan (1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2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+ 2(–5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2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+ 21) + 3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= 2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10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4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+ 42 + 3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= 2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                           –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–20 ...(6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28600" y="763560"/>
            <a:ext cx="8648640" cy="2838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libri"/>
              </a:rPr>
              <a:t>Contoh 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elesaikanlah himpunan penyelesaian dari sistem persamaan berikut dengan metode substitus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22 ...(1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4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19 ...(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21 ...(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000" spc="-1" strike="noStrike">
                <a:solidFill>
                  <a:srgbClr val="000000"/>
                </a:solidFill>
                <a:latin typeface="Calibri"/>
              </a:rPr>
              <a:t>Jawab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2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= –5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2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+ 21 ...(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3429000" y="4567320"/>
            <a:ext cx="52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                           –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–2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–8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20 ...(7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162240" y="1754280"/>
            <a:ext cx="5829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Substitusi Persamaan (4) ke Persamaan (2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4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19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(–5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2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+ 21) + 4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= 19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+ 5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21 + 4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= 19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6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40 ...(5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380880" y="3205080"/>
            <a:ext cx="8415360" cy="25628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Sistem persamaan linear dua variabel tersebut mempunyai penyelesaian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4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Selanjutnya, substitusi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2 dan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4 ke Persamaan (3)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2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5(2) +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+ 2(4) = 2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10 +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+ 8 = 2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18 +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2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Jadi, himpunan penyelesaiannya adalah {(2, 3, 4)}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65040" y="706320"/>
            <a:ext cx="3997440" cy="2228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Substitusi Persamaan (7) ke Persamaan (5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6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4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6(–8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20) = 4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– 48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120 = 4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             –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–8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640400" y="730080"/>
            <a:ext cx="4182840" cy="2228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Substitusi </a:t>
            </a:r>
            <a:r>
              <a:rPr b="0" i="1" lang="fi-FI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= 2 ke Persamaan (7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–8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2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–8(2) + 2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–16 + 2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33360" y="1662120"/>
            <a:ext cx="8439120" cy="2228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Eliminasi salah satu variabel,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atau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atau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ehingga diperoleh sistem persamaan  linear dua variabe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elesaikan sistem persamaan linear dua variabel pada Langkah 1 sehingga diperoleh nilai dua variabel,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atau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atau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ubtitusikan nilai-nilai variabel yang diperoleh pada Langkah 2 ke salah sat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ersamaan semula untuk mendapatkan nilai variabel yang ketiga.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ounded Rectangle 6"/>
          <p:cNvSpPr/>
          <p:nvPr/>
        </p:nvSpPr>
        <p:spPr>
          <a:xfrm>
            <a:off x="333360" y="442800"/>
            <a:ext cx="8439120" cy="101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560" rIns="20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alibri"/>
              </a:rPr>
              <a:t>B. METODE ELIMINAS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219240" y="3795840"/>
            <a:ext cx="8619840" cy="1690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380880" y="457200"/>
            <a:ext cx="8382240" cy="2289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0000"/>
                </a:solidFill>
                <a:latin typeface="Calibri"/>
              </a:rPr>
              <a:t>Jawab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liminasi </a:t>
            </a:r>
            <a:r>
              <a:rPr b="0" i="1" lang="fi-FI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dari Persamaan (1) dan (2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kemudian Persamaan (2) dan (3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ersamaan (1)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− 3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−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ersamaan (2) × 3 → 6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− 3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9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–––––––––––––––––––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5 ...(4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380880" y="2949480"/>
            <a:ext cx="8382240" cy="2288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samaan (2) → 2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–3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samaan (3) → 3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1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        ––––––––––––––––––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                    −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− 3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= −7 ...(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171360" y="685800"/>
            <a:ext cx="4572000" cy="1739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Eliminasi </a:t>
            </a:r>
            <a:r>
              <a:rPr b="0" i="1" lang="fi-FI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dari Persamaan (4) dan (5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Persamaan (4) × 3 → 21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− 3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1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Persamaan (5)       →    −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− 3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−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–––––––––––––––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2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–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876920" y="701640"/>
            <a:ext cx="4114800" cy="1739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Eliminasi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dari Persamaan (4) dan (5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Persamaan (4)       →    7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−    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   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Persamaan (5) × 7 → –7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– 21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–4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––––––––––––––––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–4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114480" y="2754360"/>
            <a:ext cx="8877240" cy="1618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ubstitusi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1 dan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2 ke Persamaan (2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2(1) − 2 +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Jadi, himpunan penyelesaiannya adalah {(1, 2, 3)}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6" descr="cowo senyum"/>
          <p:cNvPicPr/>
          <p:nvPr/>
        </p:nvPicPr>
        <p:blipFill>
          <a:blip r:embed="rId1"/>
          <a:stretch/>
        </p:blipFill>
        <p:spPr>
          <a:xfrm>
            <a:off x="465120" y="2023920"/>
            <a:ext cx="2666880" cy="3772080"/>
          </a:xfrm>
          <a:prstGeom prst="rect">
            <a:avLst/>
          </a:prstGeom>
          <a:ln w="0">
            <a:noFill/>
          </a:ln>
        </p:spPr>
      </p:pic>
      <p:grpSp>
        <p:nvGrpSpPr>
          <p:cNvPr id="185" name="Oval Callout 7"/>
          <p:cNvGrpSpPr/>
          <p:nvPr/>
        </p:nvGrpSpPr>
        <p:grpSpPr>
          <a:xfrm>
            <a:off x="2730600" y="731880"/>
            <a:ext cx="5711760" cy="3645000"/>
            <a:chOff x="2730600" y="731880"/>
            <a:chExt cx="5711760" cy="3645000"/>
          </a:xfrm>
        </p:grpSpPr>
        <p:pic>
          <p:nvPicPr>
            <p:cNvPr id="186" name="Oval Callout 7" descr=""/>
            <p:cNvPicPr/>
            <p:nvPr/>
          </p:nvPicPr>
          <p:blipFill>
            <a:blip r:embed="rId2"/>
            <a:stretch/>
          </p:blipFill>
          <p:spPr>
            <a:xfrm>
              <a:off x="2730600" y="731880"/>
              <a:ext cx="5711760" cy="36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3603600" y="1224000"/>
              <a:ext cx="3963960" cy="22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Content Placeholder 2"/>
          <p:cNvSpPr/>
          <p:nvPr/>
        </p:nvSpPr>
        <p:spPr>
          <a:xfrm>
            <a:off x="3352680" y="1371600"/>
            <a:ext cx="4419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mu bisa menguji pemahaman tentang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ISTEM PERSAMAAN LINEAR TIGA VARIAB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ngan mengerjakan so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Latihan 6 dan 7 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halaman  91 dan 9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ounded Rectangle 6"/>
          <p:cNvSpPr/>
          <p:nvPr/>
        </p:nvSpPr>
        <p:spPr>
          <a:xfrm>
            <a:off x="331920" y="533520"/>
            <a:ext cx="8393040" cy="95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560" rIns="20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alibri"/>
              </a:rPr>
              <a:t>3.1 SISTEM LINEAR DUA VARIABE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2" descr=""/>
          <p:cNvPicPr/>
          <p:nvPr/>
        </p:nvPicPr>
        <p:blipFill>
          <a:blip r:embed="rId1"/>
          <a:stretch/>
        </p:blipFill>
        <p:spPr>
          <a:xfrm>
            <a:off x="216000" y="1752480"/>
            <a:ext cx="852156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14280" y="1447920"/>
            <a:ext cx="8524800" cy="2228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libri"/>
              </a:rPr>
              <a:t>Contoh 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Ayu, Bimo, dan Candra berbelanja di sebua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toko buku secara bersamaan. Ayu membel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3 set pensil, 4 penghapus, dan 1 buku tulis. Bimo membeli 6 set pensil, 2 penghapus, d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1 buku tulis. Candra membeli 2 set pensil,5 penghapus, dan 10 buku tulis. Di kasir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Ayu membayar Rp83.000,00; Bimo membayar Rp86.000,00; dan Candra membayar Rp158.000,00. Berapa harga masing-masing benda terseb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ounded Rectangle 6"/>
          <p:cNvSpPr/>
          <p:nvPr/>
        </p:nvSpPr>
        <p:spPr>
          <a:xfrm>
            <a:off x="314280" y="279360"/>
            <a:ext cx="8439120" cy="101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560" rIns="205560" tIns="0" bIns="0" anchor="ctr">
            <a:noAutofit/>
          </a:bodyPr>
          <a:p>
            <a:pPr marL="898560" indent="-89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3.2.2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MASALAH YANG MELIBATKAN SISTEM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PERSAMAAN LINEAR TIGA VARIAB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610480" cy="2309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457200" y="1179360"/>
            <a:ext cx="8229600" cy="4117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Eliminasi Persamaan (1) dan Persamaan (2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4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= 83.0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= 86.0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–––––––––––––––––––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  –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= –3.000 ...(4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Eliminasi Persamaan (2) dan Persamaan (3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= 86.000     × 10   60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20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10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= 860.0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5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10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= 158.000   × 1        2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5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10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z  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= 158.0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     –––––––––––––––––––––––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15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= 702.000 ...(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traight Connector 6"/>
          <p:cNvSpPr/>
          <p:nvPr/>
        </p:nvSpPr>
        <p:spPr>
          <a:xfrm>
            <a:off x="3505320" y="3908520"/>
            <a:ext cx="0" cy="53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traight Connector 7"/>
          <p:cNvSpPr/>
          <p:nvPr/>
        </p:nvSpPr>
        <p:spPr>
          <a:xfrm>
            <a:off x="4267080" y="3908520"/>
            <a:ext cx="0" cy="549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457200" y="1600200"/>
            <a:ext cx="8305920" cy="2288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Eliminasi Persamaan (4) dan Persamaan (5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–3.000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× 15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–45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30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–45.0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15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702.000 × 2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116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30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1.404.0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          ––––––––––––––––––––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       –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= –1.449.0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= 9.000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228600" y="614520"/>
            <a:ext cx="8704440" cy="2104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Substitusi </a:t>
            </a:r>
            <a:r>
              <a:rPr b="0" i="1" lang="fi-FI" sz="2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= 9.000 ke Persamaan (4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= –3.00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     –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3(9.000) + 2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= –3.00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        –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27.000 + 2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= –3.00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= 24.00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= 12.00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28600" y="2914560"/>
            <a:ext cx="8704440" cy="2775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ubstitusi 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= 9.000 dan 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= 12.000 ke Persamaan (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+ 4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= 83.00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3(9.000) + 4(12.000) + 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= 83.00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27.000 + 48.000 + 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= 83.00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= 8.00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Jadi, harga 1 set pensil adalah Rp9.000,00; 1 penghapus adalah Rp12.000,00; dan 1 buku tulis adalah Rp8.000,00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cowo senyum"/>
          <p:cNvPicPr/>
          <p:nvPr/>
        </p:nvPicPr>
        <p:blipFill>
          <a:blip r:embed="rId1"/>
          <a:stretch/>
        </p:blipFill>
        <p:spPr>
          <a:xfrm>
            <a:off x="465120" y="2023920"/>
            <a:ext cx="2666880" cy="3772080"/>
          </a:xfrm>
          <a:prstGeom prst="rect">
            <a:avLst/>
          </a:prstGeom>
          <a:ln w="0">
            <a:noFill/>
          </a:ln>
        </p:spPr>
      </p:pic>
      <p:grpSp>
        <p:nvGrpSpPr>
          <p:cNvPr id="199" name="Oval Callout 7"/>
          <p:cNvGrpSpPr/>
          <p:nvPr/>
        </p:nvGrpSpPr>
        <p:grpSpPr>
          <a:xfrm>
            <a:off x="2730600" y="731880"/>
            <a:ext cx="5711760" cy="3645000"/>
            <a:chOff x="2730600" y="731880"/>
            <a:chExt cx="5711760" cy="3645000"/>
          </a:xfrm>
        </p:grpSpPr>
        <p:pic>
          <p:nvPicPr>
            <p:cNvPr id="200" name="Oval Callout 7" descr=""/>
            <p:cNvPicPr/>
            <p:nvPr/>
          </p:nvPicPr>
          <p:blipFill>
            <a:blip r:embed="rId2"/>
            <a:stretch/>
          </p:blipFill>
          <p:spPr>
            <a:xfrm>
              <a:off x="2730600" y="731880"/>
              <a:ext cx="5711760" cy="36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603600" y="1224000"/>
              <a:ext cx="3963960" cy="22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Content Placeholder 2"/>
          <p:cNvSpPr/>
          <p:nvPr/>
        </p:nvSpPr>
        <p:spPr>
          <a:xfrm>
            <a:off x="3352680" y="1447920"/>
            <a:ext cx="4419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amu bisa menguji pemahaman tentang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MASALAH YANG MELIBATKAN SISTEM PERSAMAAN LINEAR TIGA VARIABE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ngan mengerjakan so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0000"/>
                </a:solidFill>
                <a:latin typeface="Calibri"/>
              </a:rPr>
              <a:t>Latihan 8 pada halaman  9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182520" y="3276720"/>
            <a:ext cx="8697960" cy="2654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0000"/>
                </a:solidFill>
                <a:latin typeface="Calibri"/>
              </a:rPr>
              <a:t>Jawab:  Langkah 1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Tentukan titik potong dengan sumbu 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dan sumbu 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85960" y="4316400"/>
            <a:ext cx="2179440" cy="124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4224240" y="4325760"/>
            <a:ext cx="2176560" cy="1236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3"/>
          <a:stretch/>
        </p:blipFill>
        <p:spPr>
          <a:xfrm>
            <a:off x="182520" y="1752480"/>
            <a:ext cx="8697960" cy="128448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le 6"/>
          <p:cNvSpPr/>
          <p:nvPr/>
        </p:nvSpPr>
        <p:spPr>
          <a:xfrm>
            <a:off x="182520" y="380880"/>
            <a:ext cx="8697960" cy="1244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560" rIns="205560" tIns="0" bIns="0" anchor="ctr">
            <a:noAutofit/>
          </a:bodyPr>
          <a:p>
            <a:pPr marL="898560" indent="-89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3.1.1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MENYELESAIKAN SISTEM PERSAMAAN LINEA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DENGAN METODE GRAFI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74680" y="3254400"/>
            <a:ext cx="4846680" cy="2288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0000"/>
                </a:solidFill>
                <a:latin typeface="Calibri"/>
              </a:rPr>
              <a:t>Langkah 3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Tulislah koordinat titik potong tersebut dalam pasangan berurutan (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, y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). Grafik pada Gambar 3.1 menunjukkan bahwa titik potong kedua garis adalah titik (5, 1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334120" y="973080"/>
            <a:ext cx="3463920" cy="4741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279360" y="1335240"/>
            <a:ext cx="484200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0000"/>
                </a:solidFill>
                <a:latin typeface="Calibri"/>
              </a:rPr>
              <a:t>Langkah 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Tariklah garis-garis yang melalui titik poto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dengan sumbu 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dan sumbu 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14200" y="423720"/>
            <a:ext cx="8701200" cy="19227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0000"/>
                </a:solidFill>
                <a:latin typeface="Calibri"/>
              </a:rPr>
              <a:t>Contoh 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Tunjukkan dengan gambar titik potong setiap sistem persamaan di bawah ini, kemudian tulislah himpunan penyelesaianny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5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dan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1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4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6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1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5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3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14200" y="2665440"/>
            <a:ext cx="6104160" cy="3385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0000"/>
                </a:solidFill>
                <a:latin typeface="Calibri"/>
              </a:rPr>
              <a:t>Jawab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Titik potong garis dengan sumbu-sumbu koordinat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49440" y="4094280"/>
            <a:ext cx="2841480" cy="1468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3514680" y="4075200"/>
            <a:ext cx="2581200" cy="14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6462720" y="2830680"/>
            <a:ext cx="2430360" cy="2960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216000" y="5695920"/>
            <a:ext cx="60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Jadi, himpunan penyelesaiannya adalah {(3, 2)}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154080" y="417600"/>
            <a:ext cx="611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b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68440" y="457200"/>
            <a:ext cx="2190600" cy="127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3154320" y="457200"/>
            <a:ext cx="2251080" cy="1274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3"/>
          <a:stretch/>
        </p:blipFill>
        <p:spPr>
          <a:xfrm>
            <a:off x="5867280" y="446040"/>
            <a:ext cx="3048120" cy="2309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326880" y="2894040"/>
            <a:ext cx="858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0000"/>
                </a:solidFill>
                <a:latin typeface="Calibri"/>
              </a:rPr>
              <a:t>Jadi, kedua garis sejajar, maka himpunan penyelesaiannya adalah 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119160" y="3668760"/>
            <a:ext cx="576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649440" y="3780000"/>
            <a:ext cx="2190600" cy="1223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5"/>
          <a:stretch/>
        </p:blipFill>
        <p:spPr>
          <a:xfrm>
            <a:off x="3171960" y="3778200"/>
            <a:ext cx="2182680" cy="1225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6"/>
          <a:stretch/>
        </p:blipFill>
        <p:spPr>
          <a:xfrm>
            <a:off x="5910120" y="3454560"/>
            <a:ext cx="2990880" cy="23922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423720" y="5156280"/>
            <a:ext cx="52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0000"/>
                </a:solidFill>
                <a:latin typeface="Calibri"/>
              </a:rPr>
              <a:t>Jadi, kedua garis berimpit, himpunan penyelesaiannya adalah {setiap (</a:t>
            </a:r>
            <a:r>
              <a:rPr b="0" i="1" lang="id-ID" sz="24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id-ID" sz="24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id-ID" sz="24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id-ID" sz="2400" spc="-1" strike="noStrike">
                <a:solidFill>
                  <a:srgbClr val="ff0000"/>
                </a:solidFill>
                <a:latin typeface="Calibri"/>
              </a:rPr>
              <a:t>)}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25280" y="1600200"/>
            <a:ext cx="8839440" cy="4438800"/>
          </a:xfrm>
          <a:prstGeom prst="rect">
            <a:avLst/>
          </a:prstGeom>
          <a:ln w="0">
            <a:noFill/>
          </a:ln>
        </p:spPr>
      </p:pic>
      <p:sp>
        <p:nvSpPr>
          <p:cNvPr id="119" name="Rounded Rectangle 6"/>
          <p:cNvSpPr/>
          <p:nvPr/>
        </p:nvSpPr>
        <p:spPr>
          <a:xfrm>
            <a:off x="243000" y="417600"/>
            <a:ext cx="8610480" cy="95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560" rIns="20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Berdasarkan pembahasan Contoh 2, dapat disimpulkan sebagai beriku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cowo senyum"/>
          <p:cNvPicPr/>
          <p:nvPr/>
        </p:nvPicPr>
        <p:blipFill>
          <a:blip r:embed="rId1"/>
          <a:stretch/>
        </p:blipFill>
        <p:spPr>
          <a:xfrm>
            <a:off x="465120" y="2023920"/>
            <a:ext cx="2666880" cy="3772080"/>
          </a:xfrm>
          <a:prstGeom prst="rect">
            <a:avLst/>
          </a:prstGeom>
          <a:ln w="0">
            <a:noFill/>
          </a:ln>
        </p:spPr>
      </p:pic>
      <p:grpSp>
        <p:nvGrpSpPr>
          <p:cNvPr id="121" name="Oval Callout 7"/>
          <p:cNvGrpSpPr/>
          <p:nvPr/>
        </p:nvGrpSpPr>
        <p:grpSpPr>
          <a:xfrm>
            <a:off x="2730600" y="731880"/>
            <a:ext cx="5711760" cy="3645000"/>
            <a:chOff x="2730600" y="731880"/>
            <a:chExt cx="5711760" cy="3645000"/>
          </a:xfrm>
        </p:grpSpPr>
        <p:pic>
          <p:nvPicPr>
            <p:cNvPr id="122" name="Oval Callout 7" descr=""/>
            <p:cNvPicPr/>
            <p:nvPr/>
          </p:nvPicPr>
          <p:blipFill>
            <a:blip r:embed="rId2"/>
            <a:stretch/>
          </p:blipFill>
          <p:spPr>
            <a:xfrm>
              <a:off x="2730600" y="731880"/>
              <a:ext cx="5711760" cy="36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603600" y="1224000"/>
              <a:ext cx="3963960" cy="22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Content Placeholder 2"/>
          <p:cNvSpPr/>
          <p:nvPr/>
        </p:nvSpPr>
        <p:spPr>
          <a:xfrm>
            <a:off x="3352680" y="1295280"/>
            <a:ext cx="4419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mu bisa menguji pemahaman tentang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ENYELESAIKAN SISTEM PERSAMAAN LINEAR DENGAN METODE GRAFIK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ngan mengerjakan so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0000"/>
                </a:solidFill>
                <a:latin typeface="Calibri"/>
              </a:rPr>
              <a:t>Latihan 1 pada halaman 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0T09:15:15Z</dcterms:created>
  <dc:creator>Febri</dc:creator>
  <dc:description/>
  <dc:language>en-US</dc:language>
  <cp:lastModifiedBy>Taryo</cp:lastModifiedBy>
  <dcterms:modified xsi:type="dcterms:W3CDTF">2017-04-03T10:23:17Z</dcterms:modified>
  <cp:revision>122</cp:revision>
  <dc:subject/>
  <dc:title>PowerPoint Presentation</dc:title>
</cp:coreProperties>
</file>