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CF224-9CB7-4911-867D-73F981FF2F6F}" type="slidenum">
              <a:rPr b="0" lang="es-C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7AC0F-AF84-4B0D-8734-656D678260C1}" type="slidenum">
              <a:rPr b="0" lang="es-C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293CA-7C5D-4FDC-BA8C-12E91FAA2143}" type="slidenum">
              <a:rPr b="0" lang="es-C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CFBA5-30BE-42D5-BE65-BBC2F60346F0}" type="slidenum">
              <a:rPr b="0" lang="es-C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0FB2C-6FC5-47B5-A60B-1FAD1C19FB5C}" type="slidenum">
              <a:rPr b="0" lang="es-C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889DA-A527-41D8-9453-9108E1C24246}" type="slidenum">
              <a:rPr b="0" lang="es-C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27677-D948-4890-89A8-04C42759A381}" type="slidenum">
              <a:rPr b="0" lang="es-C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AE9AE-E110-4FB3-B937-31E309020E3D}" type="slidenum">
              <a:rPr b="0" lang="es-C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BCAED-4C53-4C2A-A575-FF04729CF97F}" type="slidenum">
              <a:rPr b="0" lang="es-C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2BF6-D3AF-4E3D-AE11-F188D9C3A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7A97-E23E-4B07-9890-90908DD21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7F1E-3FB3-483D-9CB5-AAC5BC967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311A-05BF-4B8C-AD67-4073DD2EC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5CB1-A5CA-46D9-92D2-8DD46CA86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D3A9-4230-45D2-9576-7F6C15B7F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9229-439E-48F6-87FB-EBF241C59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DFCA-DB26-4627-A4E4-0E592FF7B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A6D3-5A0F-494F-8227-C83D26DAE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2616-22B1-4629-B522-3774D349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A34C-8ADB-4B92-B60A-0D7A7EA1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1854-25E2-4E69-B9AD-0DCCF935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FB7DA-6C93-4E50-8956-5B77B3D9008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earthnocloudshgclrll8"/>
          <p:cNvPicPr/>
          <p:nvPr/>
        </p:nvPicPr>
        <p:blipFill>
          <a:blip r:embed="rId1"/>
          <a:stretch/>
        </p:blipFill>
        <p:spPr>
          <a:xfrm>
            <a:off x="7143840" y="0"/>
            <a:ext cx="1700280" cy="150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Object 4"/>
          <p:cNvGraphicFramePr/>
          <p:nvPr/>
        </p:nvGraphicFramePr>
        <p:xfrm>
          <a:off x="7645320" y="214200"/>
          <a:ext cx="884160" cy="100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45320" y="214200"/>
                    <a:ext cx="88416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" name="Picture 6" descr="Logo ISP 2 "/>
          <p:cNvPicPr/>
          <p:nvPr/>
        </p:nvPicPr>
        <p:blipFill>
          <a:blip r:embed="rId4"/>
          <a:stretch/>
        </p:blipFill>
        <p:spPr>
          <a:xfrm>
            <a:off x="0" y="0"/>
            <a:ext cx="1116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6 CuadroTexto"/>
          <p:cNvSpPr/>
          <p:nvPr/>
        </p:nvSpPr>
        <p:spPr>
          <a:xfrm>
            <a:off x="1785960" y="1500120"/>
            <a:ext cx="6072120" cy="47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OIT advierte sobre pérdida de 52 millones de puestos de trabajo en el 2009</a:t>
            </a:r>
            <a:r>
              <a:rPr b="0" i="1" lang="es-CR" sz="1600" spc="-1" strike="noStrike">
                <a:solidFill>
                  <a:srgbClr val="000000"/>
                </a:solidFill>
                <a:latin typeface="Arial"/>
              </a:rPr>
              <a:t>: (Informe sobre Tendencias Mundiales del Empleo de las Mujeres, marzo 200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Calibri"/>
              </a:rPr>
              <a:t>Entre 10 y 22 millones podrían ser muje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Tasa de desempleo podría aument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Hombres: entre 6.1% y 7.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Mujeres: entre 6.3% y 7.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000000"/>
                </a:solidFill>
                <a:latin typeface="Arial"/>
              </a:rPr>
              <a:t>Mujeres más vulnerab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Experimentan la crisis con mayor rapid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Tienen una más lenta recupe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5 CuadroTexto" descr=""/>
          <p:cNvPicPr/>
          <p:nvPr/>
        </p:nvPicPr>
        <p:blipFill>
          <a:blip r:embed="rId5"/>
          <a:stretch/>
        </p:blipFill>
        <p:spPr>
          <a:xfrm>
            <a:off x="1390680" y="579600"/>
            <a:ext cx="5527800" cy="901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http://www.world-psi.org/images/ES_Women_wwwh.gif"/>
          <p:cNvPicPr/>
          <p:nvPr/>
        </p:nvPicPr>
        <p:blipFill>
          <a:blip r:embed="rId6"/>
          <a:stretch/>
        </p:blipFill>
        <p:spPr>
          <a:xfrm>
            <a:off x="6786720" y="4643280"/>
            <a:ext cx="1285560" cy="14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earthnocloudshgclrll8"/>
          <p:cNvPicPr/>
          <p:nvPr/>
        </p:nvPicPr>
        <p:blipFill>
          <a:blip r:embed="rId1"/>
          <a:stretch/>
        </p:blipFill>
        <p:spPr>
          <a:xfrm>
            <a:off x="7143840" y="0"/>
            <a:ext cx="1700280" cy="150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Object 4"/>
          <p:cNvGraphicFramePr/>
          <p:nvPr/>
        </p:nvGraphicFramePr>
        <p:xfrm>
          <a:off x="7645320" y="214200"/>
          <a:ext cx="884160" cy="100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45320" y="214200"/>
                    <a:ext cx="88416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" name="Picture 6" descr="Logo ISP 2 "/>
          <p:cNvPicPr/>
          <p:nvPr/>
        </p:nvPicPr>
        <p:blipFill>
          <a:blip r:embed="rId4"/>
          <a:stretch/>
        </p:blipFill>
        <p:spPr>
          <a:xfrm>
            <a:off x="0" y="0"/>
            <a:ext cx="1116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6 CuadroTexto"/>
          <p:cNvSpPr/>
          <p:nvPr/>
        </p:nvSpPr>
        <p:spPr>
          <a:xfrm>
            <a:off x="1785960" y="1500120"/>
            <a:ext cx="607212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Medidas políticas </a:t>
            </a:r>
            <a:r>
              <a:rPr b="0" i="1" lang="es-CR" sz="1600" spc="-1" strike="noStrike">
                <a:solidFill>
                  <a:srgbClr val="000000"/>
                </a:solidFill>
                <a:latin typeface="Arial"/>
              </a:rPr>
              <a:t>(Juan Somavía, Director OIT)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Calibri"/>
              </a:rPr>
              <a:t>empleos sostenibles y de calidad tanto para hombres como mujer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Calibri"/>
              </a:rPr>
              <a:t>una protección social más amplia, incluyendo beneficios de desempleo y sistemas de seguro que reconozcan la posición vulnerable de las mujeres en el mercado del trabajo,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CR" sz="1800" spc="-1" strike="noStrike">
                <a:solidFill>
                  <a:srgbClr val="000000"/>
                </a:solidFill>
                <a:latin typeface="Calibri"/>
              </a:rPr>
              <a:t>un diálogo social que incluya de manera activa a las mujeres en los procesos de toma de decis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5 CuadroTexto" descr=""/>
          <p:cNvPicPr/>
          <p:nvPr/>
        </p:nvPicPr>
        <p:blipFill>
          <a:blip r:embed="rId5"/>
          <a:stretch/>
        </p:blipFill>
        <p:spPr>
          <a:xfrm>
            <a:off x="1438200" y="596880"/>
            <a:ext cx="5426280" cy="695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http://portal.oit.or.cr/images/stories/juan_somavia.jpg"/>
          <p:cNvPicPr/>
          <p:nvPr/>
        </p:nvPicPr>
        <p:blipFill>
          <a:blip r:embed="rId6"/>
          <a:stretch/>
        </p:blipFill>
        <p:spPr>
          <a:xfrm>
            <a:off x="1500120" y="4714920"/>
            <a:ext cx="11905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earthnocloudshgclrll8"/>
          <p:cNvPicPr/>
          <p:nvPr/>
        </p:nvPicPr>
        <p:blipFill>
          <a:blip r:embed="rId1"/>
          <a:stretch/>
        </p:blipFill>
        <p:spPr>
          <a:xfrm>
            <a:off x="7143840" y="0"/>
            <a:ext cx="1700280" cy="150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Object 4"/>
          <p:cNvGraphicFramePr/>
          <p:nvPr/>
        </p:nvGraphicFramePr>
        <p:xfrm>
          <a:off x="7645320" y="214200"/>
          <a:ext cx="884160" cy="100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45320" y="214200"/>
                    <a:ext cx="88416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Picture 6" descr="Logo ISP 2 "/>
          <p:cNvPicPr/>
          <p:nvPr/>
        </p:nvPicPr>
        <p:blipFill>
          <a:blip r:embed="rId4"/>
          <a:stretch/>
        </p:blipFill>
        <p:spPr>
          <a:xfrm>
            <a:off x="0" y="0"/>
            <a:ext cx="1116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6 CuadroTexto"/>
          <p:cNvSpPr/>
          <p:nvPr/>
        </p:nvSpPr>
        <p:spPr>
          <a:xfrm>
            <a:off x="1785960" y="150012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PANORAMA LABORAL DE AL y el Carib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5 CuadroTexto" descr=""/>
          <p:cNvPicPr/>
          <p:nvPr/>
        </p:nvPicPr>
        <p:blipFill>
          <a:blip r:embed="rId5"/>
          <a:stretch/>
        </p:blipFill>
        <p:spPr>
          <a:xfrm>
            <a:off x="1438200" y="596880"/>
            <a:ext cx="5426280" cy="695520"/>
          </a:xfrm>
          <a:prstGeom prst="rect">
            <a:avLst/>
          </a:prstGeom>
          <a:ln w="0">
            <a:noFill/>
          </a:ln>
        </p:spPr>
      </p:pic>
      <p:sp>
        <p:nvSpPr>
          <p:cNvPr id="68" name="7 CuadroTexto"/>
          <p:cNvSpPr/>
          <p:nvPr/>
        </p:nvSpPr>
        <p:spPr>
          <a:xfrm>
            <a:off x="1928880" y="2428920"/>
            <a:ext cx="4429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Crisis detiene tendencia de crecimiento del empleo en los últimos 5 añ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Entre 1.5 y 2.4 millones de puestos de trabajo que se podrían perder durante el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Mujeres y jóvenes serían los más afect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Aumentarán las inequidades y la desprotección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earthnocloudshgclrll8"/>
          <p:cNvPicPr/>
          <p:nvPr/>
        </p:nvPicPr>
        <p:blipFill>
          <a:blip r:embed="rId1"/>
          <a:stretch/>
        </p:blipFill>
        <p:spPr>
          <a:xfrm>
            <a:off x="7143840" y="0"/>
            <a:ext cx="1700280" cy="150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" name="Object 4"/>
          <p:cNvGraphicFramePr/>
          <p:nvPr/>
        </p:nvGraphicFramePr>
        <p:xfrm>
          <a:off x="7645320" y="214200"/>
          <a:ext cx="884160" cy="100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45320" y="214200"/>
                    <a:ext cx="88416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2" name="Picture 6" descr="Logo ISP 2 "/>
          <p:cNvPicPr/>
          <p:nvPr/>
        </p:nvPicPr>
        <p:blipFill>
          <a:blip r:embed="rId4"/>
          <a:stretch/>
        </p:blipFill>
        <p:spPr>
          <a:xfrm>
            <a:off x="0" y="0"/>
            <a:ext cx="1116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6 CuadroTexto"/>
          <p:cNvSpPr/>
          <p:nvPr/>
        </p:nvSpPr>
        <p:spPr>
          <a:xfrm>
            <a:off x="1785960" y="1500120"/>
            <a:ext cx="60721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Propuesta de los gobiernos para palear el efecto de la crisis en la pérdida de puestos de trabaj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2006 la CE adopta la </a:t>
            </a:r>
            <a:r>
              <a:rPr b="0" i="1" lang="es-CR" sz="1800" spc="-1" strike="noStrike">
                <a:solidFill>
                  <a:srgbClr val="000000"/>
                </a:solidFill>
                <a:latin typeface="Arial"/>
              </a:rPr>
              <a:t>“flexisegurida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Tiene como propósito: </a:t>
            </a:r>
            <a:r>
              <a:rPr b="0" i="1" lang="es-CR" sz="1800" spc="-1" strike="noStrike">
                <a:solidFill>
                  <a:srgbClr val="000000"/>
                </a:solidFill>
                <a:latin typeface="Arial"/>
              </a:rPr>
              <a:t>conjugar la flexibilidad en el mercado laboral y mantener la seguridad en los emple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Algunos ejempl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- Puestos de trabajo menos durad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Reducción de la jornada lab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Menos beneficios sociales </a:t>
            </a:r>
            <a:r>
              <a:rPr b="0" i="1" lang="es-CR" sz="1800" spc="-1" strike="noStrike">
                <a:solidFill>
                  <a:srgbClr val="000000"/>
                </a:solidFill>
                <a:latin typeface="Arial"/>
              </a:rPr>
              <a:t>(seguridad soc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Salarios más competitivos ( </a:t>
            </a:r>
            <a:r>
              <a:rPr b="0" i="1" lang="es-CR" sz="1800" spc="-1" strike="noStrike">
                <a:solidFill>
                  <a:srgbClr val="000000"/>
                </a:solidFill>
                <a:latin typeface="Arial"/>
              </a:rPr>
              <a:t>paga por productividad…</a:t>
            </a: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5 CuadroTexto" descr=""/>
          <p:cNvPicPr/>
          <p:nvPr/>
        </p:nvPicPr>
        <p:blipFill>
          <a:blip r:embed="rId5"/>
          <a:stretch/>
        </p:blipFill>
        <p:spPr>
          <a:xfrm>
            <a:off x="1438200" y="596880"/>
            <a:ext cx="542628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earthnocloudshgclrll8"/>
          <p:cNvPicPr/>
          <p:nvPr/>
        </p:nvPicPr>
        <p:blipFill>
          <a:blip r:embed="rId1"/>
          <a:stretch/>
        </p:blipFill>
        <p:spPr>
          <a:xfrm>
            <a:off x="7143840" y="0"/>
            <a:ext cx="1700280" cy="150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Object 4"/>
          <p:cNvGraphicFramePr/>
          <p:nvPr/>
        </p:nvGraphicFramePr>
        <p:xfrm>
          <a:off x="7645320" y="214200"/>
          <a:ext cx="884160" cy="100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45320" y="214200"/>
                    <a:ext cx="88416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8" name="Picture 6" descr="Logo ISP 2 "/>
          <p:cNvPicPr/>
          <p:nvPr/>
        </p:nvPicPr>
        <p:blipFill>
          <a:blip r:embed="rId4"/>
          <a:stretch/>
        </p:blipFill>
        <p:spPr>
          <a:xfrm>
            <a:off x="0" y="0"/>
            <a:ext cx="1116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6 CuadroTexto"/>
          <p:cNvSpPr/>
          <p:nvPr/>
        </p:nvSpPr>
        <p:spPr>
          <a:xfrm>
            <a:off x="1785960" y="1500120"/>
            <a:ext cx="60721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En América Latina se propone entre otras medid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En México: una reforma laboral con claras intensiones de flexibilización, así como continuar fomentando los Contratos Colectivos de Protección Labo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En Chile postergar la decisión para no reconocer el pago de incentivos salariales en día domingo para trabajadores/as que aún no lo goz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Implementar programas escudo en C.A. para adoptar medidas drásticas sobre flexibilidad laboral tanto para el sector privado como públ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5 CuadroTexto" descr=""/>
          <p:cNvPicPr/>
          <p:nvPr/>
        </p:nvPicPr>
        <p:blipFill>
          <a:blip r:embed="rId5"/>
          <a:stretch/>
        </p:blipFill>
        <p:spPr>
          <a:xfrm>
            <a:off x="1438200" y="596880"/>
            <a:ext cx="5426280" cy="695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http://www.ilo.org/wcmsp5/groups/public/---dgreports/---dcomm/documents/image/wcms_103419.gif"/>
          <p:cNvPicPr/>
          <p:nvPr/>
        </p:nvPicPr>
        <p:blipFill>
          <a:blip r:embed="rId6"/>
          <a:stretch/>
        </p:blipFill>
        <p:spPr>
          <a:xfrm>
            <a:off x="155520" y="-351000"/>
            <a:ext cx="1095480" cy="7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earthnocloudshgclrll8"/>
          <p:cNvPicPr/>
          <p:nvPr/>
        </p:nvPicPr>
        <p:blipFill>
          <a:blip r:embed="rId1"/>
          <a:stretch/>
        </p:blipFill>
        <p:spPr>
          <a:xfrm>
            <a:off x="7143840" y="0"/>
            <a:ext cx="1700280" cy="150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Object 4"/>
          <p:cNvGraphicFramePr/>
          <p:nvPr/>
        </p:nvGraphicFramePr>
        <p:xfrm>
          <a:off x="7645320" y="214200"/>
          <a:ext cx="884160" cy="100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45320" y="214200"/>
                    <a:ext cx="88416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5" name="Picture 6" descr="Logo ISP 2 "/>
          <p:cNvPicPr/>
          <p:nvPr/>
        </p:nvPicPr>
        <p:blipFill>
          <a:blip r:embed="rId4"/>
          <a:stretch/>
        </p:blipFill>
        <p:spPr>
          <a:xfrm>
            <a:off x="0" y="0"/>
            <a:ext cx="1116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6 CuadroTexto"/>
          <p:cNvSpPr/>
          <p:nvPr/>
        </p:nvSpPr>
        <p:spPr>
          <a:xfrm>
            <a:off x="1785960" y="1500120"/>
            <a:ext cx="6072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000000"/>
                </a:solidFill>
                <a:latin typeface="Arial"/>
              </a:rPr>
              <a:t>Propuesta del movimiento sindical de las Américas (CSA/FSI)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CR" sz="1800" spc="-1" strike="noStrike">
                <a:solidFill>
                  <a:srgbClr val="000000"/>
                </a:solidFill>
                <a:latin typeface="Arial"/>
                <a:ea typeface="Arial"/>
              </a:rPr>
              <a:t>Realizar una Jornada Continental de Lucha de l@s trabajad@res contra la Crisis: </a:t>
            </a:r>
            <a:r>
              <a:rPr b="0" i="1" lang="es-CR" sz="1800" spc="-1" strike="noStrike">
                <a:solidFill>
                  <a:srgbClr val="000000"/>
                </a:solidFill>
                <a:latin typeface="Arial"/>
                <a:ea typeface="Arial"/>
              </a:rPr>
              <a:t>27 de marz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  <a:ea typeface="Arial"/>
              </a:rPr>
              <a:t>En el marco de la Cumbre Presidencial de las Américas a realizarse en Trinidad &amp; Tobago entre el 14 y el 18 de abril: </a:t>
            </a:r>
            <a:r>
              <a:rPr b="0" i="1" lang="es-CR" sz="1800" spc="-1" strike="noStrike">
                <a:solidFill>
                  <a:srgbClr val="000000"/>
                </a:solidFill>
                <a:latin typeface="Arial"/>
                <a:ea typeface="Arial"/>
              </a:rPr>
              <a:t>colocar la posición del movimiento sindical y adoptar una estrategia a segui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5 CuadroTexto" descr=""/>
          <p:cNvPicPr/>
          <p:nvPr/>
        </p:nvPicPr>
        <p:blipFill>
          <a:blip r:embed="rId5"/>
          <a:stretch/>
        </p:blipFill>
        <p:spPr>
          <a:xfrm>
            <a:off x="1438200" y="596880"/>
            <a:ext cx="5426280" cy="695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http://www.ilo.org/wcmsp5/groups/public/---dgreports/---dcomm/documents/image/wcms_103419.gif"/>
          <p:cNvPicPr/>
          <p:nvPr/>
        </p:nvPicPr>
        <p:blipFill>
          <a:blip r:embed="rId6"/>
          <a:stretch/>
        </p:blipFill>
        <p:spPr>
          <a:xfrm>
            <a:off x="155520" y="-351000"/>
            <a:ext cx="1095480" cy="7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earthnocloudshgclrll8"/>
          <p:cNvPicPr/>
          <p:nvPr/>
        </p:nvPicPr>
        <p:blipFill>
          <a:blip r:embed="rId1"/>
          <a:stretch/>
        </p:blipFill>
        <p:spPr>
          <a:xfrm>
            <a:off x="7143840" y="0"/>
            <a:ext cx="1700280" cy="150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Object 4"/>
          <p:cNvGraphicFramePr/>
          <p:nvPr/>
        </p:nvGraphicFramePr>
        <p:xfrm>
          <a:off x="7645320" y="214200"/>
          <a:ext cx="884160" cy="100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45320" y="214200"/>
                    <a:ext cx="88416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2" name="Picture 6" descr="Logo ISP 2 "/>
          <p:cNvPicPr/>
          <p:nvPr/>
        </p:nvPicPr>
        <p:blipFill>
          <a:blip r:embed="rId4"/>
          <a:stretch/>
        </p:blipFill>
        <p:spPr>
          <a:xfrm>
            <a:off x="0" y="0"/>
            <a:ext cx="1116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6 CuadroTexto"/>
          <p:cNvSpPr/>
          <p:nvPr/>
        </p:nvSpPr>
        <p:spPr>
          <a:xfrm>
            <a:off x="1357200" y="1500120"/>
            <a:ext cx="7786800" cy="43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000000"/>
                </a:solidFill>
                <a:latin typeface="Arial"/>
              </a:rPr>
              <a:t>Declaración de la ISP/IE/CSI en la 53 Sesión de la Comisión Social y Jurídica de la Mujer (Marzo/2009, New York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002060"/>
                </a:solidFill>
                <a:latin typeface="Arial"/>
              </a:rPr>
              <a:t>07. </a:t>
            </a:r>
            <a:r>
              <a:rPr b="0" lang="es-CR" sz="1400" spc="-1" strike="noStrike">
                <a:solidFill>
                  <a:srgbClr val="000000"/>
                </a:solidFill>
                <a:latin typeface="Arial"/>
              </a:rPr>
              <a:t>El mundo está haciendo frente a la primera crisis financiera del Siglo XXI. No sólo el sector financiero, sino también el suministro de alimentos y el medio ambiente están en crisis. </a:t>
            </a:r>
            <a:r>
              <a:rPr b="0" lang="es-CR" sz="1400" spc="-1" strike="noStrike">
                <a:solidFill>
                  <a:srgbClr val="ff0000"/>
                </a:solidFill>
                <a:latin typeface="Arial"/>
              </a:rPr>
              <a:t>Los servicios públicos también pueden considerarse en crisi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000000"/>
                </a:solidFill>
                <a:latin typeface="Arial"/>
              </a:rPr>
              <a:t>Se está ignorando el impacto que estas crisis pueden tener sobre el género, al ocasionar que las mujeres y sus familias queden sumidas en una pobreza aún mayor. Las mujeres corren el riesgo de verse obligadas a abandonar sus lugares de trabajo y “volver a casa” a causa de la crisis financiera global, particularmente en áreas rurales y entre minorías y grupos excluidos (mujeres afectadas por el SIDA, niños, personas de edad avanzada, migrantes y trabajadores/as domésticos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000000"/>
                </a:solidFill>
                <a:latin typeface="Arial"/>
              </a:rPr>
              <a:t>El mercado laboral y las políticas que promueven un trabajo decente – incluyendo 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000000"/>
                </a:solidFill>
                <a:latin typeface="Arial"/>
              </a:rPr>
              <a:t>acceso a la protección social, el respeto de los derechos básicos y aquellas que dan voz a los trabajadores y trabajadoras – juegan un papel clave para reducir la pobreza y las desigualdades en todo el mun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1f497d"/>
                </a:solidFill>
                <a:latin typeface="Arial"/>
              </a:rPr>
              <a:t>Ver documento anexo número 17 en el dossi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5 CuadroTexto" descr=""/>
          <p:cNvPicPr/>
          <p:nvPr/>
        </p:nvPicPr>
        <p:blipFill>
          <a:blip r:embed="rId5"/>
          <a:stretch/>
        </p:blipFill>
        <p:spPr>
          <a:xfrm>
            <a:off x="1438200" y="596880"/>
            <a:ext cx="5426280" cy="695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http://www.ilo.org/wcmsp5/groups/public/---dgreports/---dcomm/documents/image/wcms_103419.gif"/>
          <p:cNvPicPr/>
          <p:nvPr/>
        </p:nvPicPr>
        <p:blipFill>
          <a:blip r:embed="rId6"/>
          <a:stretch/>
        </p:blipFill>
        <p:spPr>
          <a:xfrm>
            <a:off x="155520" y="-351000"/>
            <a:ext cx="1095480" cy="733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7"/>
          <a:stretch/>
        </p:blipFill>
        <p:spPr>
          <a:xfrm>
            <a:off x="7140600" y="4643280"/>
            <a:ext cx="200340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earthnocloudshgclrll8"/>
          <p:cNvPicPr/>
          <p:nvPr/>
        </p:nvPicPr>
        <p:blipFill>
          <a:blip r:embed="rId1"/>
          <a:stretch/>
        </p:blipFill>
        <p:spPr>
          <a:xfrm>
            <a:off x="7143840" y="0"/>
            <a:ext cx="1700280" cy="150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Object 4"/>
          <p:cNvGraphicFramePr/>
          <p:nvPr/>
        </p:nvGraphicFramePr>
        <p:xfrm>
          <a:off x="7645320" y="214200"/>
          <a:ext cx="884160" cy="100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45320" y="214200"/>
                    <a:ext cx="88416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0" name="Picture 6" descr="Logo ISP 2 "/>
          <p:cNvPicPr/>
          <p:nvPr/>
        </p:nvPicPr>
        <p:blipFill>
          <a:blip r:embed="rId4"/>
          <a:stretch/>
        </p:blipFill>
        <p:spPr>
          <a:xfrm>
            <a:off x="0" y="0"/>
            <a:ext cx="1116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5 CuadroTexto" descr=""/>
          <p:cNvPicPr/>
          <p:nvPr/>
        </p:nvPicPr>
        <p:blipFill>
          <a:blip r:embed="rId5"/>
          <a:stretch/>
        </p:blipFill>
        <p:spPr>
          <a:xfrm>
            <a:off x="1438200" y="596880"/>
            <a:ext cx="5426280" cy="695520"/>
          </a:xfrm>
          <a:prstGeom prst="rect">
            <a:avLst/>
          </a:prstGeom>
          <a:ln w="0">
            <a:noFill/>
          </a:ln>
        </p:spPr>
      </p:pic>
      <p:sp>
        <p:nvSpPr>
          <p:cNvPr id="102" name="9 CuadroTexto"/>
          <p:cNvSpPr/>
          <p:nvPr/>
        </p:nvSpPr>
        <p:spPr>
          <a:xfrm>
            <a:off x="1357200" y="1285920"/>
            <a:ext cx="71438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000000"/>
                </a:solidFill>
                <a:latin typeface="Arial"/>
              </a:rPr>
              <a:t>Recomendaciones a seguir en el plan Subrac-Mujeres 2009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Adoptar acciones exigibles a los gobiernos para palear efecto de la crisis económica en las mujeres trabajado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Establecer alianzas estratégicas en coalición con las centrales sindicales y las organizaciones paraguas de éstas en la Subregión: PSCC &amp; CSA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000000"/>
                </a:solidFill>
                <a:latin typeface="Arial"/>
              </a:rPr>
              <a:t>Organizar acciones afirmativa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a. Foros de discu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b. Monitorear nacional y establecimiento de redes sobre pérdida de empleos públ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c. Utilizar los espacios de negociación y de diálogo con los gobiern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d. Incluir nuevas cláusulas de protección del empleo femenino dentro de los convenios colectiv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e. Apoyar más fuertemente las campañas de IS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6T22:46:57Z</dcterms:created>
  <dc:creator>.</dc:creator>
  <dc:description/>
  <dc:language>en-US</dc:language>
  <cp:lastModifiedBy>Oscar Rodriguez</cp:lastModifiedBy>
  <dcterms:modified xsi:type="dcterms:W3CDTF">2009-03-09T04:13:35Z</dcterms:modified>
  <cp:revision>41</cp:revision>
  <dc:subject/>
  <dc:title>Slide 1</dc:title>
</cp:coreProperties>
</file>