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1366-582F-42C3-A3F6-E22D6DE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3C5-1B1A-49AD-9085-4182FB0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221-49DD-4DA6-9540-F703A9A0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D2A-5E4E-493B-80C2-DED38093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EA9-B413-4E38-9792-7B5B792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CD3-4334-4B52-946E-CFC454C7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2471-921B-470C-BE75-30C8B1B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6FD-23F5-4062-A768-4E93140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5216-AD91-4CA4-AFBD-CFA5DCC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7EAF-B39F-4684-8DB7-847C0FCA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F68-6157-42EB-BB6A-08515532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DE1-ED9A-44D6-B4B5-0FC400E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FEA-9091-40A4-9D06-F1BD986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F79B-C5C8-497E-BE1F-E1D24189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52A-0D87-4659-98DE-A1E32BAC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53B-78B8-44F8-8C91-7E6C5C7A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8C31-6C26-48ED-8A6F-6CF9421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3BE-A289-422B-9D78-E750269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78B-E629-41E9-9405-5592FA0A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0EE-0203-48DF-A807-A21074B7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982-E00E-4FB5-B246-DE9DCEB9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11D-0F8A-4829-81CB-B01ED94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933-BE71-40A1-8508-D4F1C6CF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671-DDFD-4E9B-83A5-FD03996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99AE-A3F9-4488-9DDE-A08132B7AFE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66B-0EE2-4170-9A82-74EAD7568D5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lbreyfamily.com/Elle-TINY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090d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20024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aramond"/>
              </a:rPr>
              <a:t>Self-concep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Garamond"/>
              </a:rPr>
              <a:t>your image of who you are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(consist of your feelings and thought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About your strength and weaknesses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abilities and limitation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an individual self evaluation &amp; self apprai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nicki%20-%20baby%20thinking" descr=""/>
          <p:cNvPicPr/>
          <p:nvPr/>
        </p:nvPicPr>
        <p:blipFill>
          <a:blip r:embed="rId2"/>
          <a:stretch/>
        </p:blipFill>
        <p:spPr>
          <a:xfrm>
            <a:off x="6627960" y="2590920"/>
            <a:ext cx="251604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c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0084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Palatino Linotype"/>
              </a:rPr>
              <a:t>How are you going to evaluate yourself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Palatino Linotype"/>
              </a:rPr>
              <a:t>How are you going to know about yourself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057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Motivation for self 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appropriateness of self 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9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disclosure of the other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663480" y="106668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Guidelines for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724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possible burde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9" name="5" descr="Cute baby rose"/>
          <p:cNvPicPr/>
          <p:nvPr/>
        </p:nvPicPr>
        <p:blipFill>
          <a:blip r:embed="rId2"/>
          <a:stretch/>
        </p:blipFill>
        <p:spPr>
          <a:xfrm>
            <a:off x="6553080" y="3276720"/>
            <a:ext cx="259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Practice effective and active liste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Give suppor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81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 Willing to reciproc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606600" y="990720"/>
            <a:ext cx="74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Responding to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495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Keep disclosure confidenti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181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on’t use disclosure information against the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2097000"/>
            <a:ext cx="2286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9" name="peer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2103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on’t be push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 indirect and move to another topi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Refu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759600" y="91440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Resisting pressure to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6VH7760" descr=""/>
          <p:cNvPicPr/>
          <p:nvPr/>
        </p:nvPicPr>
        <p:blipFill>
          <a:blip r:embed="rId2"/>
          <a:stretch/>
        </p:blipFill>
        <p:spPr>
          <a:xfrm>
            <a:off x="5715000" y="37908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090d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048120"/>
            <a:ext cx="1752840" cy="1371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elf-Concep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17320" y="1676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Others’ imag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49640" y="320040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Your 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interpret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&amp; evalu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840" y="51814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ultural Teach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920" y="335268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ompari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0"/>
            <a:endCxn id="144" idx="1"/>
          </p:cNvCxnSpPr>
          <p:nvPr/>
        </p:nvCxnSpPr>
        <p:spPr>
          <a:xfrm flipH="1" flipV="1" rot="5400000">
            <a:off x="1714320" y="1848600"/>
            <a:ext cx="1448280" cy="155988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"/>
          <p:cNvCxnSpPr>
            <a:stCxn id="144" idx="3"/>
            <a:endCxn id="145" idx="0"/>
          </p:cNvCxnSpPr>
          <p:nvPr/>
        </p:nvCxnSpPr>
        <p:spPr>
          <a:xfrm>
            <a:off x="5373720" y="1905120"/>
            <a:ext cx="1542240" cy="129600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"/>
          <p:cNvCxnSpPr>
            <a:stCxn id="145" idx="2"/>
            <a:endCxn id="146" idx="3"/>
          </p:cNvCxnSpPr>
          <p:nvPr/>
        </p:nvCxnSpPr>
        <p:spPr>
          <a:xfrm rot="5400000">
            <a:off x="5759280" y="4254840"/>
            <a:ext cx="1023120" cy="128844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6" idx="1"/>
            <a:endCxn id="147" idx="2"/>
          </p:cNvCxnSpPr>
          <p:nvPr/>
        </p:nvCxnSpPr>
        <p:spPr>
          <a:xfrm rot="10800000">
            <a:off x="1658160" y="4174560"/>
            <a:ext cx="1389960" cy="123552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701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742680" y="83808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Self-awareness:-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7040" y="958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the degree to which you know yourself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0016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6" name="672%20self-awareness%20theory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0" y="2666880"/>
            <a:ext cx="4572000" cy="2743200"/>
          </a:xfrm>
          <a:prstGeom prst="rect">
            <a:avLst/>
          </a:prstGeom>
          <a:noFill/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666880"/>
            <a:ext cx="0" cy="2743200"/>
          </a:xfrm>
          <a:prstGeom prst="line">
            <a:avLst/>
          </a:prstGeom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038480"/>
            <a:ext cx="4572000" cy="0"/>
          </a:xfrm>
          <a:prstGeom prst="line">
            <a:avLst/>
          </a:prstGeom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440" y="10666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Palatino Linotype"/>
              </a:rPr>
              <a:t>Johari’s Window Self Awareness Theor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3124080"/>
            <a:ext cx="1625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Open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35200" y="4267080"/>
            <a:ext cx="13892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Hidde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33360" y="3124080"/>
            <a:ext cx="16315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Blind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42000" y="4267080"/>
            <a:ext cx="16574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Unknow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2860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nown to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360" y="2286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t known to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170000">
            <a:off x="1023840" y="2795400"/>
            <a:ext cx="15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nown t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105800">
            <a:off x="974520" y="4284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t kn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o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016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296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Open self :- all information about yourself that you and others kno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8195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lind Self :- knowledge about you that others have but you do n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Unknown self :- parts of yourself that neither you nor other kno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0292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idden Self :- the knowledge that you have of yourself but keep secret from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431640" y="83808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Garamond"/>
              </a:rPr>
              <a:t>Self-aware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036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75560" y="914400"/>
            <a:ext cx="62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To Grow self awareness</a:t>
            </a:r>
            <a:r>
              <a:rPr b="1" lang="en-US" sz="3200" spc="-1" strike="noStrike">
                <a:solidFill>
                  <a:srgbClr val="545472"/>
                </a:solidFill>
                <a:latin typeface="Garamond"/>
              </a:rPr>
              <a:t>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44792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To become more aware of your 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needs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esires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abits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lief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&amp; attitud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657600"/>
            <a:ext cx="62481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Listen to others and notice their feedba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reveal yourself to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Seek  out information about your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ialogue with yourself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2" name="3" descr="Yellow flower babies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eekaboo" descr=""/>
          <p:cNvPicPr/>
          <p:nvPr/>
        </p:nvPicPr>
        <p:blipFill>
          <a:blip r:embed="rId2"/>
          <a:stretch/>
        </p:blipFill>
        <p:spPr>
          <a:xfrm>
            <a:off x="6985080" y="0"/>
            <a:ext cx="2158920" cy="281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34290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Garamond"/>
              </a:rPr>
              <a:t>Factor influences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Who you a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cul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gend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listen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topi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40" y="1371600"/>
            <a:ext cx="374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you reveal inform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about yourself and mov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information from th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Hidden self into open self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403920" y="91440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8" name="12" descr=""/>
          <p:cNvPicPr/>
          <p:nvPr/>
        </p:nvPicPr>
        <p:blipFill>
          <a:blip r:embed="rId3"/>
          <a:stretch/>
        </p:blipFill>
        <p:spPr>
          <a:xfrm>
            <a:off x="0" y="3581280"/>
            <a:ext cx="457200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64800" y="182880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tributes to self knowledge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200" y="2743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mproves your coping abil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9200" y="3581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mproves communic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49568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elps you establish meaningful relationshi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3040" y="106668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Garamond"/>
              </a:rPr>
              <a:t>Reward of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5" name="wakeful" descr=""/>
          <p:cNvPicPr/>
          <p:nvPr/>
        </p:nvPicPr>
        <p:blipFill>
          <a:blip r:embed="rId2"/>
          <a:stretch/>
        </p:blipFill>
        <p:spPr>
          <a:xfrm>
            <a:off x="6791400" y="762120"/>
            <a:ext cx="2352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1676520"/>
            <a:ext cx="50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Risks personal and social reje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May result in material los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767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s irreversible; you cannot self-disclose and then take it back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914400"/>
            <a:ext cx="34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Garamond"/>
              </a:rPr>
              <a:t>Danger of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867120"/>
            <a:ext cx="2838600" cy="212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2:32:23Z</dcterms:created>
  <dc:creator>NODES</dc:creator>
  <dc:description/>
  <dc:language>en-US</dc:language>
  <cp:lastModifiedBy>NODES</cp:lastModifiedBy>
  <dcterms:modified xsi:type="dcterms:W3CDTF">2006-07-25T03:39:45Z</dcterms:modified>
  <cp:revision>19</cp:revision>
  <dc:subject/>
  <dc:title>SELF IN COMMUNICATION</dc:title>
</cp:coreProperties>
</file>