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A70-08C0-4731-8801-1434F03D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445-0065-46E0-9D36-45845336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DA6-33FA-4FF8-B7BB-EDB327CF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A53-8F0B-4535-BD9E-BB84B836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F623-DBFF-4070-8C66-CD35D399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9F93-E746-428D-A95A-41ECEC94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5563-D505-4205-B39E-C200D99D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3C60-87B6-42B6-8AA4-D54846A9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59AF-1BA1-4ACE-9015-A8AE4BB7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9D3C-0EE2-4957-A5E3-0B4FA735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1BC9-24E3-4D2B-90B9-350280E3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A95-BE84-4C13-882B-FCA43758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3FD8-AA6F-41AC-A0E1-48397A42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A5A0-BFA8-450D-9C98-9E3AD6E3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3602-E432-42C8-B2DD-F7611225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7D37-072A-4241-8862-4C6BD694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C04D-0A30-4DB2-BAC2-C9F47A78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631-78A2-41DF-9E4F-69E1532D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120-76CA-47B0-8E74-61F83D51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B60-ECD8-4FB8-80AE-8C58BE70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88F-994B-45F2-B41B-00E37062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9F1-A9C1-4A15-B538-3503D2E2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F8C-08FE-4412-B900-25FEB30B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DF3-3830-43D6-B04C-7516904C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DB19-FCC2-49F4-96FD-DC5212BCF422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B18B-3C4F-4CD1-9ADE-FB807C5D273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ilbreyfamily.com/Elle-TINY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724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9090d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20024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Garamond"/>
              </a:rPr>
              <a:t>Self-concep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82880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Garamond"/>
              </a:rPr>
              <a:t>your image of who you are.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(consist of your feelings and thoughts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About your strength and weaknesses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your abilities and limitations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-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an individual self evaluation &amp; self apprais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9" name="nicki%20-%20baby%20thinking" descr=""/>
          <p:cNvPicPr/>
          <p:nvPr/>
        </p:nvPicPr>
        <p:blipFill>
          <a:blip r:embed="rId2"/>
          <a:stretch/>
        </p:blipFill>
        <p:spPr>
          <a:xfrm>
            <a:off x="6627960" y="2590920"/>
            <a:ext cx="2516040" cy="395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c7c7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600084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Palatino Linotype"/>
              </a:rPr>
              <a:t>How are you going to evaluate yourself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Palatino Linotype"/>
              </a:rPr>
              <a:t>How are you going to know about yourself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843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0574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Consider the Motivation for self disclosu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Consider the appropriateness of self disclosu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8098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Consider the disclosure of the other pers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663480" y="1066680"/>
            <a:ext cx="74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aramond"/>
              </a:rPr>
              <a:t>Guidelines for Self Disclosure:-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4724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4.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Consider the possible burden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9" name="5" descr="Cute baby rose"/>
          <p:cNvPicPr/>
          <p:nvPr/>
        </p:nvPicPr>
        <p:blipFill>
          <a:blip r:embed="rId2"/>
          <a:stretch/>
        </p:blipFill>
        <p:spPr>
          <a:xfrm>
            <a:off x="6553080" y="3276720"/>
            <a:ext cx="2590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843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Practice effective and active listen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6668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Give suppor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81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Be Willing to reciprocat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606600" y="990720"/>
            <a:ext cx="74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aramond"/>
              </a:rPr>
              <a:t>Responding to Self Disclosure:-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4495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4.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Keep disclosure confidenti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5181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5.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Don’t use disclosure information against the pers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2097000"/>
            <a:ext cx="22860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9" name="peer" descr=""/>
          <p:cNvPicPr/>
          <p:nvPr/>
        </p:nvPicPr>
        <p:blipFill>
          <a:blip r:embed="rId2"/>
          <a:stretch/>
        </p:blipFill>
        <p:spPr>
          <a:xfrm>
            <a:off x="6629400" y="2286000"/>
            <a:ext cx="21034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843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676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Don’t be pushe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Be indirect and move to another topi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3429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Refus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759600" y="914400"/>
            <a:ext cx="88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aramond"/>
              </a:rPr>
              <a:t>Resisting pressure to Self Disclosure:-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6VH7760" descr=""/>
          <p:cNvPicPr/>
          <p:nvPr/>
        </p:nvPicPr>
        <p:blipFill>
          <a:blip r:embed="rId2"/>
          <a:stretch/>
        </p:blipFill>
        <p:spPr>
          <a:xfrm>
            <a:off x="5715000" y="379080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9090d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3048120"/>
            <a:ext cx="1752840" cy="1371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imes New Roman"/>
              </a:rPr>
              <a:t>Self-Concep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17320" y="167652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Others’ imag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49640" y="3200400"/>
            <a:ext cx="213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Your ow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interpretation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&amp; evalu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840" y="51814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Cultural Teach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920" y="3352680"/>
            <a:ext cx="17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Social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Comparis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7" idx="0"/>
            <a:endCxn id="144" idx="1"/>
          </p:cNvCxnSpPr>
          <p:nvPr/>
        </p:nvCxnSpPr>
        <p:spPr>
          <a:xfrm flipH="1" flipV="1" rot="5400000">
            <a:off x="1714320" y="1848600"/>
            <a:ext cx="1448280" cy="1559880"/>
          </a:xfrm>
          <a:prstGeom prst="curvedConnector2">
            <a:avLst/>
          </a:prstGeom>
          <a:ln w="3168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9" name=""/>
          <p:cNvCxnSpPr>
            <a:stCxn id="144" idx="3"/>
            <a:endCxn id="145" idx="0"/>
          </p:cNvCxnSpPr>
          <p:nvPr/>
        </p:nvCxnSpPr>
        <p:spPr>
          <a:xfrm>
            <a:off x="5373720" y="1905120"/>
            <a:ext cx="1542240" cy="1296000"/>
          </a:xfrm>
          <a:prstGeom prst="curvedConnector2">
            <a:avLst/>
          </a:prstGeom>
          <a:ln w="3168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0" name=""/>
          <p:cNvCxnSpPr>
            <a:stCxn id="145" idx="2"/>
            <a:endCxn id="146" idx="3"/>
          </p:cNvCxnSpPr>
          <p:nvPr/>
        </p:nvCxnSpPr>
        <p:spPr>
          <a:xfrm rot="5400000">
            <a:off x="5759280" y="4254840"/>
            <a:ext cx="1023120" cy="1288440"/>
          </a:xfrm>
          <a:prstGeom prst="curvedConnector2">
            <a:avLst/>
          </a:prstGeom>
          <a:ln w="3168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6" idx="1"/>
            <a:endCxn id="147" idx="2"/>
          </p:cNvCxnSpPr>
          <p:nvPr/>
        </p:nvCxnSpPr>
        <p:spPr>
          <a:xfrm rot="10800000">
            <a:off x="1658160" y="4174560"/>
            <a:ext cx="1389960" cy="1235520"/>
          </a:xfrm>
          <a:prstGeom prst="curvedConnector2">
            <a:avLst/>
          </a:prstGeom>
          <a:ln w="3168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701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742680" y="838080"/>
            <a:ext cx="45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aramond"/>
              </a:rPr>
              <a:t>Self-awareness:-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67040" y="9586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the degree to which you know yourself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0016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6" name="672%20self-awareness%20theory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0" y="2666880"/>
            <a:ext cx="4572000" cy="2743200"/>
          </a:xfrm>
          <a:prstGeom prst="rect">
            <a:avLst/>
          </a:prstGeom>
          <a:noFill/>
          <a:ln w="763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666880"/>
            <a:ext cx="0" cy="2743200"/>
          </a:xfrm>
          <a:prstGeom prst="line">
            <a:avLst/>
          </a:prstGeom>
          <a:ln w="763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4038480"/>
            <a:ext cx="4572000" cy="0"/>
          </a:xfrm>
          <a:prstGeom prst="line">
            <a:avLst/>
          </a:prstGeom>
          <a:ln w="763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440" y="1066680"/>
            <a:ext cx="63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Palatino Linotype"/>
              </a:rPr>
              <a:t>Johari’s Window Self Awareness Theor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51320" y="3124080"/>
            <a:ext cx="16254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Palatino Linotype"/>
              </a:rPr>
              <a:t>Open sel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35200" y="4267080"/>
            <a:ext cx="138924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Palatino Linotype"/>
              </a:rPr>
              <a:t>Hidde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Palatino Linotype"/>
              </a:rPr>
              <a:t>sel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33360" y="3124080"/>
            <a:ext cx="16315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Palatino Linotype"/>
              </a:rPr>
              <a:t>Blind sel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42000" y="4267080"/>
            <a:ext cx="165744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Palatino Linotype"/>
              </a:rPr>
              <a:t>Unknow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Palatino Linotype"/>
              </a:rPr>
              <a:t>sel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228600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Known to sel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360" y="2286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ot known to sel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170000">
            <a:off x="1023840" y="2795400"/>
            <a:ext cx="152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Known to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105800">
            <a:off x="974520" y="428472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ot know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o oth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0016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12960" y="334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765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54547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Open self :- all information about yourself that you and others kno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8195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2.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Blind Self :- knowledge about you that others have but you do no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886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3.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Unknown self :- parts of yourself that neither you nor other kno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0292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4.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Hidden Self :- the knowledge that you have of yourself but keep secret from oth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431640" y="838080"/>
            <a:ext cx="41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Garamond"/>
              </a:rPr>
              <a:t>Self-awarenes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8036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75560" y="914400"/>
            <a:ext cx="62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Garamond"/>
              </a:rPr>
              <a:t>To Grow self awareness</a:t>
            </a:r>
            <a:r>
              <a:rPr b="1" lang="en-US" sz="3200" spc="-1" strike="noStrike">
                <a:solidFill>
                  <a:srgbClr val="545472"/>
                </a:solidFill>
                <a:latin typeface="Garamond"/>
              </a:rPr>
              <a:t>:-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447920"/>
            <a:ext cx="4952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To become more aware of your ow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needs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desires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habits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belief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&amp; attitud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3657600"/>
            <a:ext cx="624816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Listen to others and notice their feedbac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reveal yourself to oth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Seek  out information about yourself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Garamond"/>
              </a:rPr>
              <a:t>Dialogue with yourself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2" name="3" descr="Yellow flower babies"/>
          <p:cNvPicPr/>
          <p:nvPr/>
        </p:nvPicPr>
        <p:blipFill>
          <a:blip r:embed="rId2"/>
          <a:stretch/>
        </p:blipFill>
        <p:spPr>
          <a:xfrm>
            <a:off x="6480000" y="0"/>
            <a:ext cx="2664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eekaboo" descr=""/>
          <p:cNvPicPr/>
          <p:nvPr/>
        </p:nvPicPr>
        <p:blipFill>
          <a:blip r:embed="rId2"/>
          <a:stretch/>
        </p:blipFill>
        <p:spPr>
          <a:xfrm>
            <a:off x="6985080" y="0"/>
            <a:ext cx="2158920" cy="2819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724280" y="342900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45472"/>
                </a:solidFill>
                <a:uFillTx/>
                <a:latin typeface="Garamond"/>
              </a:rPr>
              <a:t>Factor influences self-disclosu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54547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Who you a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54547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Your cultu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54547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Your gende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54547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Your listene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54547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Your topi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4440" y="1371600"/>
            <a:ext cx="374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Garamond"/>
              </a:rPr>
              <a:t>you reveal inform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Garamond"/>
              </a:rPr>
              <a:t>about yourself and mov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Garamond"/>
              </a:rPr>
              <a:t>information from th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Garamond"/>
              </a:rPr>
              <a:t>Hidden self into open self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403920" y="914400"/>
            <a:ext cx="44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elf Disclosure:-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8" name="12" descr=""/>
          <p:cNvPicPr/>
          <p:nvPr/>
        </p:nvPicPr>
        <p:blipFill>
          <a:blip r:embed="rId3"/>
          <a:stretch/>
        </p:blipFill>
        <p:spPr>
          <a:xfrm>
            <a:off x="0" y="3581280"/>
            <a:ext cx="457200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-64800" y="1828800"/>
            <a:ext cx="61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Contributes to self knowledge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9200" y="27432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Improves your coping abilit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9200" y="35812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Improves communicat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49568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4.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Helps you establish meaningful relationship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23040" y="1066680"/>
            <a:ext cx="40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Garamond"/>
              </a:rPr>
              <a:t>Reward of self-disclosu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5" name="wakeful" descr=""/>
          <p:cNvPicPr/>
          <p:nvPr/>
        </p:nvPicPr>
        <p:blipFill>
          <a:blip r:embed="rId2"/>
          <a:stretch/>
        </p:blipFill>
        <p:spPr>
          <a:xfrm>
            <a:off x="6791400" y="762120"/>
            <a:ext cx="2352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3520" y="1676520"/>
            <a:ext cx="509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Risks personal and social reje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2438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May result in material loss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27672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Garamond"/>
              </a:rPr>
              <a:t>Is irreversible; you cannot self-disclose and then take it back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914400"/>
            <a:ext cx="34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Garamond"/>
              </a:rPr>
              <a:t>Danger of self-disclosu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202"/>
                </a:solidFill>
                <a:latin typeface="Garamond"/>
              </a:rPr>
              <a:t>SELF IN COMMUNICA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1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3867120"/>
            <a:ext cx="2838600" cy="212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2:32:23Z</dcterms:created>
  <dc:creator>NODES</dc:creator>
  <dc:description/>
  <dc:language>en-US</dc:language>
  <cp:lastModifiedBy>NODES</cp:lastModifiedBy>
  <dcterms:modified xsi:type="dcterms:W3CDTF">2006-07-25T03:39:45Z</dcterms:modified>
  <cp:revision>19</cp:revision>
  <dc:subject/>
  <dc:title>SELF IN COMMUNICATION</dc:title>
</cp:coreProperties>
</file>