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A8C-0291-4411-8819-EDC69DDD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DFB-4DCB-4F60-8398-EC0CE091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DC7-6BF9-4CA9-97BF-23B7A8BC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0C6-0352-427C-B384-DEC8DCB7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8CD-C1FB-4579-AC25-1B5989CF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228-8698-474C-85C9-E84514BD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CA1-BBE5-4E09-ABB6-B643C2DD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41D-3CE9-4064-AADD-A907B221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4B8-C218-4999-9494-4AFCEAA5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86A-68A0-400F-B6D2-49B5B16F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E3B-6951-4046-BB98-1C3FC72F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F14-E015-40FE-9B4C-75A0C861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6FDD1-3AD6-4289-9FD1-D92BB61C2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4575D-01CC-4693-925A-6652061C73C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9:53:39Z</dcterms:created>
  <dc:creator>최봉수</dc:creator>
  <dc:description/>
  <dc:language>en-US</dc:language>
  <cp:lastModifiedBy>군만두 맛있다</cp:lastModifiedBy>
  <dcterms:modified xsi:type="dcterms:W3CDTF">2023-07-12T06:07:43Z</dcterms:modified>
  <cp:revision>2</cp:revision>
  <dc:subject/>
  <dc:title>슬라이드 1</dc:title>
</cp:coreProperties>
</file>