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B85-0CE9-44DF-BC52-6EE1FF9D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50D-4561-48F9-B1F6-3947B38B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4E9-6B65-465E-8D4A-E461C395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DB4-3926-4F44-830F-55C77CC7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7F2-9F52-4B07-BD20-084E9A44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062-E0E0-40C3-AC93-F2597CE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FC3-EA7F-4252-92EA-BF5D8D9B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473-3E41-494E-8976-59D016E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D2C-C183-4E24-9CE1-AC0652B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F59-80C6-4A62-821D-2B44A68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631-9D8D-4FE8-A8AD-07D023A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AB5-D689-4A69-B4F7-8132F9A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8419A-CFCC-44FD-8158-915A21E8D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83B7-2E88-4DAF-B73E-6FCEBD551FF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9:53:39Z</dcterms:created>
  <dc:creator>최봉수</dc:creator>
  <dc:description/>
  <dc:language>en-US</dc:language>
  <cp:lastModifiedBy>군만두 맛있다</cp:lastModifiedBy>
  <dcterms:modified xsi:type="dcterms:W3CDTF">2023-07-12T06:07:43Z</dcterms:modified>
  <cp:revision>2</cp:revision>
  <dc:subject/>
  <dc:title>슬라이드 1</dc:title>
</cp:coreProperties>
</file>