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1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20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65F-86DA-462C-BCFF-3635A834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7F4-F854-48A0-9ECC-863630D1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B1E-9CF1-4A34-BCC5-987390D0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A38-DB87-46AE-B7AD-F3DE7D48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731-55B3-4697-9505-9F20C712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A0E-2A1E-40F3-B783-4B0AB804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62C-9F35-4301-A80A-045EAD79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D4B-D010-467F-94D6-F03E7D67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FBE-3380-4403-9295-A0AAC933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FDA-0458-432D-A646-03ED907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96C-1530-4260-8B22-D1B24722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D7A-6B70-4ADA-818D-2700E44A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9F6C-FE9D-4567-9FB6-C2F9C0190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63244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p:transition spd="slow" advTm="7000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2485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</p:spTree>
  </p:cSld>
  <p:transition spd="slow" advTm="7000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61722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strips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p:transition spd="slow" advTm="7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63244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p:transition spd="slow" advTm="7000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 advTm="7000">
    <p:strips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 advTm="7000">
    <p:strips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p:transition spd="slow" advTm="7000">
    <p:strips dir="l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slow" advTm="7000">
    <p:strips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</p:spTree>
  </p:cSld>
  <p:transition spd="slow" advTm="7000">
    <p:strips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>SAPPISA</dc:creator>
  <dc:description/>
  <dc:language>en-US</dc:language>
  <cp:lastModifiedBy>Smets</cp:lastModifiedBy>
  <dcterms:modified xsi:type="dcterms:W3CDTF">2009-03-16T20:26:20Z</dcterms:modified>
  <cp:revision>15</cp:revision>
  <dc:subject/>
  <dc:title>No Slide Title</dc:title>
</cp:coreProperties>
</file>