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57A-69E1-45C9-9B71-74D1EB41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6A0-5181-410F-952C-B388FA4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D1E-6309-495E-B3B1-1BE8EF375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3F3-0454-4B4B-9584-3BBDEC9D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2D6-02C3-4B88-8601-F0490FCF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59B-ECF1-4B45-8A5C-E33F257F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56A-1885-4B9F-B991-FF2B4FEC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05A-943C-47DD-9A21-6340299B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760-7DA7-4417-9172-4642EA8E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A5D5-53FC-41C9-AAEC-F8C7542D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B92-7251-42E0-A0BF-CC3250AC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850-92A7-429B-ADD9-08A7126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956A-A947-49E4-A151-05748BB5C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habri_ahadi@yahoo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KNIK TENAGA LISTR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7640" y="1557360"/>
            <a:ext cx="4248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ihadi Prasety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616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ggerak Mula/prime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terjun (turbin air)/hid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s pembakaran bahan b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te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konven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i primer – energi mekanik – energi listr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aya terbesar penyediaan energi listrik adl biaya pembangkitan/ biaya bahan bakar (±6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at Listr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at dimana proses pembangkitan energi listrik dilakuk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a pusat listrik umumnya terdap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stalasi energi primer, instalasi penggerak generator, instalasi pendingin, instalasi listri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is-jenis pusat listri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LTA,PLTD,PLTU,PLTG,PLTGU,PLT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TN d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504720"/>
            <a:ext cx="79992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apasitas Total Pembangk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21440" cy="5256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 kapasitas tiap2 pembang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</a:rPr>
              <a:t>Buatlah makalah/artikel dengan meteri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1125360"/>
          <a:ext cx="7774920" cy="5327640"/>
        </p:xfrm>
        <a:graphic>
          <a:graphicData uri="http://schemas.openxmlformats.org/drawingml/2006/table">
            <a:tbl>
              <a:tblPr/>
              <a:tblGrid>
                <a:gridCol w="1199520"/>
                <a:gridCol w="2053080"/>
                <a:gridCol w="4522320"/>
              </a:tblGrid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omp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r urut Ab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Air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-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Uap (PLT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-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Gas (PLT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-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An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Matahari (PLT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–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Nuklir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– 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Ombak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Pasang- Sur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– 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Mikrohid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–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Gas (PLT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– 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Angi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Matahari (PLT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– 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Nuklir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- 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Ombak (PL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– 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bangkit Listrik Tenaga Pasang- Sur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uran Tug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Tugas dikerjakan kelompok, tiap kelompok terdiri dari 5 orang sesuai nomer urut absen, dikoordinir oleh ketua k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Diketik minimal 5 halaman A4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al 12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Spasi 1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ndahul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eralatan Ut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rinsip Kerja / blok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rmasala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esi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copy segera dikirimkan ke Email Address 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bri_ahadi@yahoo.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ggal pengiriman menentukan penilai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ditemukan makalah yang kembar/identik, makalah yang dikirim awal yang akan mendapat penila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93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Daftar Literatur :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smunandar,A.,DR. Teknik Tenaga Listrik, jilid 1,2,3, P.T. Pradya Paramita, Jaka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hal, Dasar Teknik Tenaga Listrik dan Elektronika Daya, Gramedia Pusaka Utama, Jakarta, 199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zgerald, Basic Electrical engineering, Mc.Graw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b Bahasan TTL (2 Sk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58920" y="1700280"/>
            <a:ext cx="7353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stem Tenaga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angkit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i Daya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si Tenaga Listr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du ind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Komponen Penilaian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1844280"/>
            <a:ext cx="778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gas (1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ap muka (1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jian Tengah Semester (UTS) (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jian Akhir Semester (UAS)  (3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STEM TENAGA LISTRI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6:21:11Z</dcterms:created>
  <dc:creator>user</dc:creator>
  <dc:description/>
  <dc:language>en-US</dc:language>
  <cp:lastModifiedBy>user</cp:lastModifiedBy>
  <dcterms:modified xsi:type="dcterms:W3CDTF">2012-02-16T02:52:42Z</dcterms:modified>
  <cp:revision>16</cp:revision>
  <dc:subject/>
  <dc:title>PENDAHULUAN</dc:title>
</cp:coreProperties>
</file>