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11-1603-484F-9F22-3E4A19A4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58F-1430-4F24-986E-E3D3625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D42-BD06-433C-90B1-00B8163C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515-D783-423B-8E73-38730AC7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E4C-120B-4416-B0D9-94A542F3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E12-4342-4B25-8122-FDBBDC56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320-6A3B-480F-A759-7662E6D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3DD-FCC8-4C70-8C9C-74434D3A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DE6-9079-4FD2-8DAA-5AEFEC6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492-562F-47C1-AFBB-C3B8AA1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871-4F8E-4F99-9570-3E9D0FC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469-5B3E-4184-BEDC-15ACB42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D282-E108-40C8-92F4-F3B0BC87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habri_ahadi@yahoo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KNIK TENAGA LIST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1557360"/>
            <a:ext cx="424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ihadi Prasety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616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ggerak Mula/prime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terjun (turbin air)/hi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pembakaran bahan b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t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konv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 primer – energi mekanik – energi list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ya terbesar penyediaan energi listrik adl biaya pembangkitan/ biaya bahan bakar (±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at List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at dimana proses pembangkitan energi listrik dilakuk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a pusat listrik umumnya terdap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stalasi energi primer, instalasi penggerak generator, instalasi pendingin, instalasi listr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is-jenis pusat listr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LTA,PLTD,PLTU,PLTG,PLTGU,PLT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TN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504720"/>
            <a:ext cx="79992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pasitas Total Pembang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144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 kapasitas tiap2 pembang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uatlah makalah/artikel dengan meter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1125360"/>
          <a:ext cx="7774920" cy="5327640"/>
        </p:xfrm>
        <a:graphic>
          <a:graphicData uri="http://schemas.openxmlformats.org/drawingml/2006/table">
            <a:tbl>
              <a:tblPr/>
              <a:tblGrid>
                <a:gridCol w="1199520"/>
                <a:gridCol w="2053080"/>
                <a:gridCol w="452232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omp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r urut Ab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Uap (PLT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-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Gas (PLT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-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n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atahari (PLT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–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Nukl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–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Ombak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Pasang- Sur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– 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ikrohid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–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Gas (PLT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– 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n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atahari (PLT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–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Nukl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-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Ombak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– 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Pasang- Sur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uran Tug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ugas dikerjakan kelompok, tiap kelompok terdiri dari 5 orang sesuai nomer urut absen, dikoordinir oleh ketua k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tik minimal 5 halaman A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al 1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Spasi 1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ndahul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alatan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insip Kerja / blo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rmasala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copy segera dikirimkan ke Email Address 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bri_ahadi@yahoo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gal pengiriman menentukan penilai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ditemukan makalah yang kembar/identik, makalah yang dikirim awal yang akan mendapat penila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aftar Literatur 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munandar,A.,DR. Teknik Tenaga Listrik, jilid 1,2,3, P.T. Pradya Paramita, Jak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hal, Dasar Teknik Tenaga Listrik dan Elektronika Daya, Gramedia Pusaka Utama, Jakarta,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zgerald, Basic Electrical engineering, Mc.Graw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 Bahasan TTL (2 S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53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Tenag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angkit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i Day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si Tenag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u ind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Komponen Penilaia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78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ga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ap muka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jian Tengah Semester (UTS)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jian Akhir Semester (UAS) 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STEM TENAGA LISTRI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1:11Z</dcterms:created>
  <dc:creator>user</dc:creator>
  <dc:description/>
  <dc:language>en-US</dc:language>
  <cp:lastModifiedBy>user</cp:lastModifiedBy>
  <dcterms:modified xsi:type="dcterms:W3CDTF">2012-02-16T02:52:42Z</dcterms:modified>
  <cp:revision>16</cp:revision>
  <dc:subject/>
  <dc:title>PENDAHULUAN</dc:title>
</cp:coreProperties>
</file>