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8E0-9367-44EC-9192-A51306F3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22A-9D5F-4D9D-A510-7B1FA501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095-7717-4313-93AF-D34C38A5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8EA-657F-4FEF-87A5-163A5AB5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781-DBF8-4868-8933-72455483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42A-6794-4F03-9994-791CD904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878-B3AB-41AD-BFEA-BE957CD9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940-9976-47BB-94C2-CCDC8F00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75C9-7728-4097-80D8-7083909B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8C9-C63D-4CF9-8449-D5EEAC05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BB93-F3F9-4FFC-9B76-EAE37942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A70-BEEF-4230-9044-485F9220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F96B-0757-4327-A75D-2584F331A4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000000"/>
                </a:solidFill>
                <a:latin typeface="Arial"/>
              </a:rPr>
              <a:t>campag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268360" y="189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8:53:52Z</dcterms:created>
  <dc:creator/>
  <dc:description/>
  <cp:keywords/>
  <dc:language>en-US</dc:language>
  <cp:lastModifiedBy>Smets</cp:lastModifiedBy>
  <dcterms:modified xsi:type="dcterms:W3CDTF">2008-08-28T20:04:17Z</dcterms:modified>
  <cp:revision>10</cp:revision>
  <dc:subject/>
  <dc:title>defarm</dc:title>
</cp:coreProperties>
</file>