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C83-F65F-4D3D-97CD-CFB0C423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3A5-14CA-44B4-98EA-06F23F39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226-724C-4C0D-B327-4F543854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6B5-30AF-42F0-B403-ADE7F619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6E7-3FF7-44B9-AA42-11F05E35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04D-910C-414D-AD33-5552950B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2F4-29DC-479B-81AD-3BFB09DB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E61-DF61-41DB-8FF8-4EFF4CD0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D80-5E89-4C5E-B99D-99A3A909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351-F083-4204-9A8D-91C216C2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335-CF23-42A7-B6E5-FBE6A988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6185-F8D2-4914-A933-A40E68F7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8771-2111-41F6-A1B3-7855350E45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000000"/>
                </a:solidFill>
                <a:latin typeface="Arial"/>
              </a:rPr>
              <a:t>campag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268360" y="189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8:53:52Z</dcterms:created>
  <dc:creator/>
  <dc:description/>
  <cp:keywords/>
  <dc:language>en-US</dc:language>
  <cp:lastModifiedBy>Smets</cp:lastModifiedBy>
  <dcterms:modified xsi:type="dcterms:W3CDTF">2008-08-28T20:04:17Z</dcterms:modified>
  <cp:revision>10</cp:revision>
  <dc:subject/>
  <dc:title>defarm</dc:title>
</cp:coreProperties>
</file>