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0345-2EAE-419E-9630-988CA417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0FB0-B16D-4A44-9DB1-6346A5473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785A-A44E-45EF-ADE5-7BADD1B7D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6F6-9744-457F-BE12-85621A99D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124-6A2F-42E9-8AB8-E5FDC7638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17CF-51EE-4BAF-9781-3A1079D0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B68-59BB-4F1F-A73F-89BCA6E5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4CAE-D66D-4E29-B34D-AEEF0396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DAB3-9CC0-416E-8CB9-8E0CEFC5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72D4-11AF-4BF1-A83E-0F1DEAF94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DF87-4EB4-4554-8AFE-AFFAE022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C17-A68F-4FC4-957A-F108C779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D5B8-3D8F-44DD-853C-C2D8CCBBD6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3.xml"/><Relationship Id="rId3" Type="http://schemas.openxmlformats.org/officeDocument/2006/relationships/image" Target="../media/image7.jpeg"/><Relationship Id="rId4" Type="http://schemas.openxmlformats.org/officeDocument/2006/relationships/slide" Target="slide5.xml"/><Relationship Id="rId5" Type="http://schemas.openxmlformats.org/officeDocument/2006/relationships/image" Target="../media/image7.jpeg"/><Relationship Id="rId6" Type="http://schemas.openxmlformats.org/officeDocument/2006/relationships/slide" Target="slide6.xml"/><Relationship Id="rId7" Type="http://schemas.openxmlformats.org/officeDocument/2006/relationships/image" Target="../media/image8.jpeg"/><Relationship Id="rId8" Type="http://schemas.openxmlformats.org/officeDocument/2006/relationships/hyperlink" Target="file:///../&#1601;&#1607;&#1585;&#1587;%20&#1575;&#1604;&#1578;&#1585;&#1575;&#1606;&#1610;&#1605;.pps" TargetMode="External"/><Relationship Id="rId9" Type="http://schemas.openxmlformats.org/officeDocument/2006/relationships/image" Target="../media/image8.jpeg"/><Relationship Id="rId10" Type="http://schemas.openxmlformats.org/officeDocument/2006/relationships/slide" Target="slide1.xml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0880" y="2286000"/>
            <a:ext cx="8458200" cy="39574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72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حبك لا يوفيه الكلا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5680" y="343044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صلبك شفاني بالتم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14400" y="4573440"/>
            <a:ext cx="9144000" cy="253188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قربك سباني في هيام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374796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ونارك في داخلي تسبيني لك عبد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69568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يا سيدي لا أخرج حر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500" t="3611" r="2500" b="36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99880" y="2070000"/>
            <a:ext cx="8463240" cy="21049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أحبك فأنت لى شهيق ذي الحيا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cs typeface="Times New Roman"/>
              </a:rPr>
              <a:t>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-304920" y="3289320"/>
            <a:ext cx="10009440" cy="21049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حبك قلبي قد اشتها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616280"/>
            <a:ext cx="5638680" cy="2104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Times New Roman"/>
                <a:cs typeface="AF_Unizah"/>
              </a:rPr>
              <a:t>لإثمي قد محا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114800" y="4616280"/>
            <a:ext cx="4359240" cy="21049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6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دمك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342900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ونارك في داخلي تسبيني لك عبد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222408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يا سيدي لا أخرج حر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4168" t="4445" r="4168" b="444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20" y="3075120"/>
            <a:ext cx="8609040" cy="1311120"/>
          </a:xfrm>
          <a:prstGeom prst="rect">
            <a:avLst/>
          </a:prstGeom>
          <a:noFill/>
          <a:ln w="0">
            <a:noFill/>
          </a:ln>
          <a:effectLst>
            <a:outerShdw dist="52300" dir="4563564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80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ونيرك لي هين يسير</a:t>
            </a:r>
            <a:r>
              <a:rPr b="1" lang="en-US" sz="8800" spc="-1" strike="noStrike">
                <a:solidFill>
                  <a:srgbClr val="ffffff"/>
                </a:solidFill>
                <a:latin typeface="Times New Roman"/>
                <a:ea typeface="AF_Unizah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054160"/>
            <a:ext cx="8893080" cy="2288520"/>
          </a:xfrm>
          <a:prstGeom prst="rect">
            <a:avLst/>
          </a:prstGeom>
          <a:noFill/>
          <a:ln w="0">
            <a:noFill/>
          </a:ln>
          <a:effectLst>
            <a:outerShdw dist="64600" dir="472516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ar-EG" sz="7200" spc="-1" strike="noStrike">
                <a:solidFill>
                  <a:srgbClr val="ffffff"/>
                </a:solidFill>
                <a:latin typeface="Times New Roman"/>
              </a:rPr>
              <a:t>أحبك لشخصك يا سيدي القدي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46600" y="4678200"/>
            <a:ext cx="6288120" cy="119124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فحبك</a:t>
            </a:r>
            <a:r>
              <a:rPr b="1" lang="ar-SA" sz="7200" spc="-1" strike="noStrike">
                <a:solidFill>
                  <a:srgbClr val="ffffff"/>
                </a:solidFill>
                <a:latin typeface="Times New Roman"/>
                <a:ea typeface="AF_Unizah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384120" y="4614840"/>
            <a:ext cx="6288120" cy="228852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ffff"/>
                </a:solidFill>
                <a:latin typeface="Times New Roman"/>
                <a:cs typeface="AF_Unizah"/>
              </a:rPr>
              <a:t>في صدري أسي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635280" y="728640"/>
            <a:ext cx="2089080" cy="79524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ar-EG" sz="6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256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0" y="3956040"/>
              <a:ext cx="9140760" cy="2530440"/>
            </a:xfrm>
            <a:prstGeom prst="rect">
              <a:avLst/>
            </a:prstGeom>
            <a:noFill/>
            <a:ln w="0">
              <a:noFill/>
            </a:ln>
            <a:effectLst>
              <a:outerShdw dist="64600" dir="472516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0" y="405288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ونارك في داخلي تسبيني لك عبد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9144000" cy="2014200"/>
          </a:xfrm>
          <a:prstGeom prst="rect">
            <a:avLst/>
          </a:prstGeom>
          <a:noFill/>
          <a:ln w="0">
            <a:noFill/>
          </a:ln>
          <a:effectLst>
            <a:outerShdw dist="73964" dir="3536435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300" spc="-1" strike="noStrike">
                <a:solidFill>
                  <a:srgbClr val="ffffff"/>
                </a:solidFill>
                <a:latin typeface="Times New Roman"/>
                <a:cs typeface="AF_Unizah"/>
              </a:rPr>
              <a:t>أحبك يا سيدي لا أخرج حراً</a:t>
            </a:r>
            <a:endParaRPr b="0" lang="en-US" sz="6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635280" y="404640"/>
            <a:ext cx="2089080" cy="795600"/>
          </a:xfrm>
          <a:prstGeom prst="rect">
            <a:avLst/>
          </a:prstGeom>
          <a:noFill/>
          <a:ln w="0">
            <a:noFill/>
          </a:ln>
          <a:effectLst>
            <a:outerShdw dist="40186" dir="6496358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ffffff"/>
                </a:solidFill>
                <a:latin typeface="Times New Roman"/>
              </a:rPr>
              <a:t>القرا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3" name="">
            <a:hlinkClick r:id="rId2" action="ppaction://hlinksldjump"/>
          </p:cNvPr>
          <p:cNvSpPr/>
          <p:nvPr/>
        </p:nvSpPr>
        <p:spPr>
          <a:xfrm>
            <a:off x="5292720" y="1413000"/>
            <a:ext cx="3816360" cy="707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بك فأنت ل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5292720" y="2433600"/>
            <a:ext cx="3816360" cy="708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بك لشخص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6" action="ppaction://hlinksldjump"/>
          </p:cNvPr>
          <p:cNvSpPr/>
          <p:nvPr/>
        </p:nvSpPr>
        <p:spPr>
          <a:xfrm>
            <a:off x="108000" y="1281240"/>
            <a:ext cx="4176720" cy="707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القرار : 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أحبك يا سيدى</a:t>
            </a:r>
            <a:r>
              <a:rPr b="1" lang="ar-EG" sz="40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392">
            <a:hlinkClick r:id="rId8"/>
          </p:cNvPr>
          <p:cNvSpPr/>
          <p:nvPr/>
        </p:nvSpPr>
        <p:spPr>
          <a:xfrm>
            <a:off x="900000" y="260280"/>
            <a:ext cx="2376720" cy="1191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  <a:effectLst>
            <a:outerShdw dist="28496" dir="922551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0000ff"/>
                </a:solidFill>
                <a:latin typeface="Arial"/>
                <a:cs typeface="Arial"/>
              </a:rPr>
              <a:t>فهرس التراني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0" action="ppaction://hlinksldjump"/>
          </p:cNvPr>
          <p:cNvSpPr/>
          <p:nvPr/>
        </p:nvSpPr>
        <p:spPr>
          <a:xfrm>
            <a:off x="5292720" y="417600"/>
            <a:ext cx="3816360" cy="7077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</a:rPr>
              <a:t>- </a:t>
            </a:r>
            <a:r>
              <a:rPr b="1" lang="ar-EG" sz="40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أحبك فحب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7T07:18:31Z</dcterms:created>
  <dc:creator/>
  <dc:description/>
  <dc:language>en-US</dc:language>
  <cp:lastModifiedBy>Sp2</cp:lastModifiedBy>
  <dcterms:modified xsi:type="dcterms:W3CDTF">2008-07-15T21:00:49Z</dcterms:modified>
  <cp:revision>46</cp:revision>
  <dc:subject/>
  <dc:title>عرض تقديمي من PowerPoint</dc:title>
</cp:coreProperties>
</file>