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456-3E2B-4E82-9CB2-03713BFDA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F5B-380D-4D0C-BD52-109157B3A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852-3CE2-43DD-8156-5D2CFFDDC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F55-C361-4679-8B0D-674794181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AF6-F9C1-4794-BF26-B5ABC772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653A-91A8-4415-8AAE-6BA42BE8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4E8-99C9-41F2-8C9C-E6AD6D32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A5D1-36AB-4312-A121-29C361C0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3023-7B8E-450D-8030-DD8AFDE5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1B8F-255F-4965-9510-3F2C76CB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9AE2-C3E1-4936-9B04-4FE2B1DB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B33-4340-4137-AA51-9348263F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5FCA-83F2-4811-84D0-47EBAB83D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6.xml"/><Relationship Id="rId7" Type="http://schemas.openxmlformats.org/officeDocument/2006/relationships/image" Target="../media/image8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1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2286000"/>
            <a:ext cx="8458200" cy="3957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 لا يوفيه الك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3430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صلبك شفاني بالتم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0" y="4573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قربك سباني في هي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74796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956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" t="3611" r="2500" b="3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9880" y="2070000"/>
            <a:ext cx="8463240" cy="210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أحبك فأنت لى شهيق ذي الح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3289320"/>
            <a:ext cx="10009440" cy="210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 قلبي قد اشتها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16280"/>
            <a:ext cx="563868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لإثمي قد محا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4616280"/>
            <a:ext cx="435924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د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42900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240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4168" t="4445" r="4168" b="44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3075120"/>
            <a:ext cx="8609040" cy="1311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ونيرك لي هين يسير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  <a:ea typeface="AF_Unizah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54160"/>
            <a:ext cx="88930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Times New Roman"/>
              </a:rPr>
              <a:t>أحبك لشخصك يا سيدي القدي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46600" y="4678200"/>
            <a:ext cx="628812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F_Unizah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84120" y="4614840"/>
            <a:ext cx="6288120" cy="2288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في صدري أسي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72864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3956040"/>
              <a:ext cx="9140760" cy="2530440"/>
            </a:xfrm>
            <a:prstGeom prst="rect">
              <a:avLst/>
            </a:prstGeom>
            <a:noFill/>
            <a:ln w="0">
              <a:noFill/>
            </a:ln>
            <a:effectLst>
              <a:outerShdw dist="64600" dir="472516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40528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فأنت 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لشخص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أحبك يا سيدى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فحب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8:31Z</dcterms:created>
  <dc:creator/>
  <dc:description/>
  <dc:language>en-US</dc:language>
  <cp:lastModifiedBy>Sp2</cp:lastModifiedBy>
  <dcterms:modified xsi:type="dcterms:W3CDTF">2008-07-15T21:00:49Z</dcterms:modified>
  <cp:revision>46</cp:revision>
  <dc:subject/>
  <dc:title>عرض تقديمي من PowerPoint</dc:title>
</cp:coreProperties>
</file>