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opin%20-%20Tristesse%20(piano).wav" ContentType="audio/x-wav"/>
  <Override PartName="/ppt/media/image6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 rot="10800000">
            <a:off x="0" y="6858000"/>
            <a:ext cx="9144000" cy="1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pin%20-%20Tristesse%20(piano)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"/>
          <p:cNvSpPr/>
          <p:nvPr/>
        </p:nvSpPr>
        <p:spPr>
          <a:xfrm>
            <a:off x="179280" y="333360"/>
            <a:ext cx="855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همه ما خودمان را چنين متقاعد ميكنيم كه با ازدواج زندگي بهتري خواهيم داشت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وقتي بچه دار شويم بهتر خواهد شد، و با به دنيا آمدن بچه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Arial"/>
              </a:rPr>
              <a:t>‌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هاي بعدي زندگي بهتر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828800" y="1143000"/>
            <a:ext cx="60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ولي وقتي مي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Arial"/>
              </a:rPr>
              <a:t>‌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بينيم كودكانمان به توجه مداوم نيازمندند، خسته ميشوي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بهتر است صبر كنيم تا بزرگتر شوند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Za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24000" y="198108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فرزندان ما كه به سن نوجواني ميرسند، باز كلافه ميشويم، چون دايم بايد با آنها سروكله بزنيم. مطمئناً وقتي بزرگتر شوند و به سنين بالاتر برسند، خوشبخت خواهيم ش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273480"/>
            <a:ext cx="4211640" cy="20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با خود ميگوييم زندگي وقتي بهتر خواهد شد كه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همسرمان رفتارش را عوض كند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يك ماشين شيكتر داشته باشيم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بچه هايمان ازدواج كنند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به مرخصي بروي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و در نهايت بازنشسته شويم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516640"/>
            <a:ext cx="87771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حقيقت اين است كه براي خوشبختي، هيچ زماني بهتر از همين الآن وجود ندار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اگر الآن نه، پس كي؟ زندگي همواره پر از چالش اس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بهتر اين است كه اين واقعيت را بپذيريم و تصميم بگيريم كه با وجود همه اين مسائل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شاد و خوشبخت زندگي كني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29000" y="0"/>
            <a:ext cx="5494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به خيالمان ميرسد كه زندگي، همان زندگي دلخواه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موقعي شروع ميشود كه موانعي كه سر راهمان هستند ، كنار برون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Zar"/>
              </a:rPr>
              <a:t>	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مشكلي كه هم اكنون با آن دست و پنجه نرم ميكنيم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Zar"/>
              </a:rPr>
              <a:t>	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كاري كه بايد تمام كنيم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Zar"/>
              </a:rPr>
              <a:t>	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زماني كه بايد براي كاري صرف كنيم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Zar"/>
              </a:rPr>
              <a:t>	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بدهي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Arial"/>
              </a:rPr>
              <a:t>‌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هايي كه بايد پرداخت كنيم و ..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بعد از آن زندگي ما، زيبا و لذت بخش خواهد بود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721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بعد از آنكه همه اينها را تجربه كرديم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تازه مي فهميم كه زندگي، همين چيزهايي است كه ما آنها را موانع مي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Arial"/>
              </a:rPr>
              <a:t>‌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شناسيم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اين بصيرت به ما ياري ميدهد تا دريابيم كه جاده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Arial"/>
              </a:rPr>
              <a:t>‌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اي بسوي خوشبختي وجود ندار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29040" y="3428280"/>
            <a:ext cx="6749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cc"/>
                </a:solidFill>
                <a:latin typeface="Arial"/>
                <a:cs typeface="Zar"/>
              </a:rPr>
              <a:t>خوشبختي، خودٍ همين جاده ا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6600" y="4515120"/>
            <a:ext cx="946044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Zar"/>
              </a:rPr>
              <a:t>پس بياييد از هر لحظه لذت ببري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Zar"/>
              </a:rPr>
              <a:t>براي آغاز يك زندگي شاد و سعادتمند لازم نيست كه در انتظار بنشيني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Zar"/>
              </a:rPr>
              <a:t>در انتظار فارغ التحصيلي، بازگشت به دانشگاه، كاهش وزن ، افزايش وزن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Zar"/>
              </a:rPr>
              <a:t>شروع به كار، ازدواج، شروع تعطيلات، صبح جمعه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Zar"/>
              </a:rPr>
              <a:t>در انتظار دريافت وام جديد، خريد يك ماشين نو، باز پرداخت قسطها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Zar"/>
              </a:rPr>
              <a:t>بهار و تابستان و پاييز و زمستان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Zar"/>
              </a:rPr>
              <a:t>اول برج، پخش فيلم مورد نظرمان از تلويزيون، مردن، تولد مجدد و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38920" y="620640"/>
            <a:ext cx="3205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73360"/>
            <a:ext cx="4824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31840" y="620640"/>
            <a:ext cx="690444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Arial"/>
                <a:cs typeface="Zar"/>
              </a:rPr>
              <a:t>خوشبختي يك سفر است، نه يك مقص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Arial"/>
                <a:cs typeface="Zar"/>
              </a:rPr>
              <a:t>هيچ زماني بهتر ا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Arial"/>
                <a:cs typeface="Zar"/>
              </a:rPr>
              <a:t>همين لحظ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Arial"/>
                <a:cs typeface="Zar"/>
              </a:rPr>
              <a:t>براي شاد بودن وجود ندا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Arial"/>
                <a:cs typeface="Zar"/>
              </a:rPr>
              <a:t>زندگي كنيد و از حال لذت ببر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4680" y="4188600"/>
            <a:ext cx="908712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bc2d00"/>
                </a:solidFill>
                <a:latin typeface="Arial"/>
                <a:cs typeface="Zar"/>
              </a:rPr>
              <a:t>اكنون فكر كنيد و سعي كنيد به سؤالات زير پاسخ دهي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bc2d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bc2d00"/>
                </a:solidFill>
                <a:latin typeface="Arial"/>
                <a:cs typeface="Zar"/>
              </a:rPr>
              <a:t>پنج نفر از ثروتمندترين مردم جهان را نام ببر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bc2d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bc2d00"/>
                </a:solidFill>
                <a:latin typeface="Arial"/>
                <a:cs typeface="Zar"/>
              </a:rPr>
              <a:t>برنده</a:t>
            </a:r>
            <a:r>
              <a:rPr b="1" lang="fa-IR" sz="2400" spc="-1" strike="noStrike">
                <a:solidFill>
                  <a:srgbClr val="bc2d00"/>
                </a:solidFill>
                <a:latin typeface="Arial"/>
                <a:ea typeface="Arial"/>
              </a:rPr>
              <a:t>‌</a:t>
            </a:r>
            <a:r>
              <a:rPr b="1" lang="fa-IR" sz="2400" spc="-1" strike="noStrike">
                <a:solidFill>
                  <a:srgbClr val="bc2d00"/>
                </a:solidFill>
                <a:latin typeface="Arial"/>
                <a:cs typeface="Zar"/>
              </a:rPr>
              <a:t>هاي پنج جام جهاني آخر را نام ببر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bc2d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bc2d00"/>
                </a:solidFill>
                <a:latin typeface="Arial"/>
                <a:cs typeface="Zar"/>
              </a:rPr>
              <a:t>آخرين ده نفري كه جايزه نوبل را بردند چه كساني هستند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bc2d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bc2d00"/>
                </a:solidFill>
                <a:latin typeface="Arial"/>
                <a:cs typeface="Zar"/>
              </a:rPr>
              <a:t>آخرين ده بازيگر برتر اسكار را نام ببر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74560" y="115920"/>
            <a:ext cx="647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نميتوانيد پاسخ دهيد؟ نسبتاً مشكل است، اينطور نيست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نگران نباشيد، هيچ كس اين اسامي را به خاطر نمي آور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روزهاي تشويق به پايان ميرسد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نشانهاي افتخار خاك مي گيرند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برندگان به زودي فراموش ميشوند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070640" y="1989000"/>
            <a:ext cx="989640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اكنون به اين سؤالها پاسخ دهي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نام سه معلم خود را كه در تربيت شما مؤثر بوده‌اند ، بگويي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سه نفر از دوستان خود را كه در مواقع نياز به شما كمك كردند، نام ببري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افرادي كه با مهربانيهايشان احساس گرم زندگي را به شما بخشيده‌اند، به ياد بياوري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پنج نفر را كه از هم صحبتي با آنها لذت ميبريد، نام ببري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2320" y="3500280"/>
            <a:ext cx="806292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حالا ساده تر شد، اينطور نيست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افرادي كه به زندگي شما معني بخشيده‌اند، ارتباطي با "ترين‌ها" ندارند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ثروت بيشتري ندارند، بهترين جوايز را نبرده‌اند، ..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آنها كساني هستند كه به فكر شما هستند، مراقب شما هستند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همانهايي كه در همه شرايط، كنار شما ميمانن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07880" y="5372280"/>
            <a:ext cx="6516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cs typeface="Zar"/>
              </a:rPr>
              <a:t>كمي بيانديشيد. زندگي خيلي كوتاه اس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cs typeface="Zar"/>
              </a:rPr>
              <a:t>و شما در كدام ليست قرار داريد؟ نميدانيد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78680" y="259920"/>
            <a:ext cx="88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اجازه دهيد كمكتان كن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شما در زمره مشهورترين نيستيد...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اما از جمله كساني هستيد كه براي درميان گذاشتن اين پيام در خاطرمن بودي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01640" y="1268280"/>
            <a:ext cx="1015524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مدتي پيش، در المپيك سياتل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Zar"/>
              </a:rPr>
              <a:t>9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Zar"/>
              </a:rPr>
              <a:t> ورزشكار دو و ميداني كه هركدام گرفتار نوعي عقب ماندگي جسمي يا روحي بودند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بر روي خط شروع مسابقه دو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Zar"/>
              </a:rPr>
              <a:t>100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Zar"/>
              </a:rPr>
              <a:t> متر ايستادند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مسابقه با صداي شليك تفنگ، شروع ش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هيچكس ، آنچنان دونده نبود، اما هر نفر ميخواست كه در مسابقه شركت كند و برنده شود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Za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51520" y="2997360"/>
            <a:ext cx="804132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آنها در رديفهاي سه تايي شروع به دويدن كردند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پسري پايش لغزيد ، چند معلق زد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و به زمين افتاد، و شروع به گريه‌ كر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هشت نفر ديگر صداي گريه او را شنيدن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حركت خود را كند كرده و از پشت سر به او نگاه كردند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ايستادند و به عقب برگشتند... همگي..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Za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200" y="4797000"/>
            <a:ext cx="72824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دختري كه دچار  سندرم دان (ناتواني ذهني) بود كنارش نشست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او را بغل كرد و پرسيد "بهتر شدي ؟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پس از آن هر 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Zar"/>
              </a:rPr>
              <a:t>9</a:t>
            </a:r>
            <a:r>
              <a:rPr b="1" lang="fa-IR" sz="1800" spc="-1" strike="noStrike">
                <a:solidFill>
                  <a:srgbClr val="ffffff"/>
                </a:solidFill>
                <a:latin typeface="Arial"/>
                <a:ea typeface="Zar"/>
              </a:rPr>
              <a:t> نفر دوشادوش يكديگر تا خط پايان گام برداشتن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5955120"/>
            <a:ext cx="70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Zar"/>
              </a:rPr>
              <a:t>تمام جمعيت روي پا ايستاده و كف زدند. اين تشويقها مدت زيادي طول كشيد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Za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379160" y="389520"/>
            <a:ext cx="86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Zar"/>
              </a:rPr>
              <a:t>شاهدان اين ماجرا، هنوز هم در باره اين موضوع صحبت ميكنند. چرا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Za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45360" y="1033560"/>
            <a:ext cx="861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cs typeface="Zar"/>
              </a:rPr>
              <a:t>زيرا از اعماق درونمان ميدانيم ك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cs typeface="Zar"/>
              </a:rPr>
              <a:t>در زندگي چيزي مهمتر از برنده شدن خودمان وجود دارد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Z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1395000" y="2236680"/>
            <a:ext cx="11882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Arial"/>
                <a:cs typeface="Zar"/>
              </a:rPr>
              <a:t>مهمترين چيز در زندگي، كمك به سايرين براي برنده شدن است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Arial"/>
                <a:cs typeface="Zar"/>
              </a:rPr>
              <a:t>حتي اگر به قيمت آهسته تر رفتن و تغيير در نتيجه مسابقه اي باشد كه ما در آ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Arial"/>
                <a:cs typeface="Zar"/>
              </a:rPr>
              <a:t>شركت داريم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Z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368720" y="3932280"/>
            <a:ext cx="115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cs typeface="Zar"/>
              </a:rPr>
              <a:t>اگراين پيام را با عزيزانمان درميان بگذاريم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cs typeface="Zar"/>
              </a:rPr>
              <a:t>شايد موفق شويم تا قلبمان را تغيير دهيم، شايد هم قلب شخص ديگري را،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4480" y="5156640"/>
            <a:ext cx="8679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Arial"/>
                <a:ea typeface="Zar"/>
              </a:rPr>
              <a:t>”شعله يك شمع با افروختن شمع ديگري خاموش نميشود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592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Zar"/>
              </a:rPr>
              <a:t>ترجمه و تهيه: عبدالرضا زارع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03:48:29Z</dcterms:created>
  <dc:creator>55c0466</dc:creator>
  <dc:description/>
  <dc:language>en-US</dc:language>
  <cp:lastModifiedBy>mohammadzadeh</cp:lastModifiedBy>
  <dcterms:modified xsi:type="dcterms:W3CDTF">2007-01-26T13:43:07Z</dcterms:modified>
  <cp:revision>3</cp:revision>
  <dc:subject>Categoria: Reflexão</dc:subject>
  <dc:title>Slide 1</dc:title>
</cp:coreProperties>
</file>